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image2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538-0CD1-4763-92DD-CE5A03AA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19A-E172-4378-B114-09539D91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272-910F-48B3-B6AE-E87B2B1F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4B3-AE0F-4986-BB8E-394874DA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2EC-F0F1-4DD6-8453-33B5BEC0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571-D4A7-4CA1-8695-2A6F150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861-050C-4398-9715-F4E11731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528-E4FC-4A32-BDE9-73A33CC2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E08-97ED-4644-A172-7B61B0AF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798-7127-4469-9F98-9AEC8925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E4-676F-4C0B-A35F-B20C516F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32D-1597-47A7-B746-9DC9F581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3BC-DAC2-4105-95AA-1BFF9D66D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UNIDAD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3526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RUTURAS DE CONTROLO DE FLUXOS DE PR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R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09120" y="1981080"/>
            <a:ext cx="5523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num = 1, tota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while (num &lt; 11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total +=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num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Total de números de 1 a 10 é %d\n", tot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99360" y="1295280"/>
            <a:ext cx="427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nt  num, total = 0, cont = 1;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”Insira 0 para sair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scanf("%d", &amp;nu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while (num !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otal += n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scanf("%d", &amp;nu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f(num =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”Obrigado pela sua escolha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else con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"Total é %d\n", tot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”A média é %d\n", total / co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960" y="1357200"/>
            <a:ext cx="586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#include &lt;con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#include &lt;ctype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har cm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”Escolha uma das seguintes letras A  B  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Prima S para sair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md = toupper(getch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witch (cm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’A': printf(”Escolheu a letra A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B': printf(" Escolheu a letra B 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S': printf(”Obrigado por escolher este programa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’C': printf(" Escolheu a letra C 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efault : printf(”Escolha inválida, tente de novo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 while (cmd != ’S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iagrama da Iteração Cont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992320"/>
            <a:ext cx="3798720" cy="15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for(</a:t>
            </a:r>
            <a:r>
              <a:rPr b="0" i="1" lang="pt-PT" sz="2400" spc="-1" strike="noStrike">
                <a:solidFill>
                  <a:srgbClr val="000000"/>
                </a:solidFill>
                <a:latin typeface="Times New Roman"/>
              </a:rPr>
              <a:t>inic</a:t>
            </a:r>
            <a:r>
              <a:rPr b="1" i="1" lang="pt-PT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pt-PT" sz="2400" spc="-1" strike="noStrike">
                <a:solidFill>
                  <a:srgbClr val="000000"/>
                </a:solidFill>
                <a:latin typeface="Times New Roman"/>
              </a:rPr>
              <a:t>expBool</a:t>
            </a:r>
            <a:r>
              <a:rPr b="1" i="1" lang="pt-PT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pt-PT" sz="2400" spc="-1" strike="noStrike">
                <a:solidFill>
                  <a:srgbClr val="000000"/>
                </a:solidFill>
                <a:latin typeface="Times New Roman"/>
              </a:rPr>
              <a:t>incr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heltenhamITCbyBT-Bold;Cheltenh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heltenhamITCbyBT-Bold;Cheltenh"/>
              </a:rPr>
              <a:t>	</a:t>
            </a:r>
            <a:r>
              <a:rPr b="0" i="1" lang="pt-PT" sz="2400" spc="-1" strike="noStrike">
                <a:solidFill>
                  <a:srgbClr val="000000"/>
                </a:solidFill>
                <a:latin typeface="CheltenhamITCbyBT-Bold;Cheltenh"/>
              </a:rPr>
              <a:t>instrução</a:t>
            </a:r>
            <a:r>
              <a:rPr b="0" lang="pt-PT" sz="2400" spc="-1" strike="noStrike">
                <a:solidFill>
                  <a:srgbClr val="000000"/>
                </a:solidFill>
                <a:latin typeface="CheltenhamITCbyBT-Bold;Cheltenh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562720" y="3733920"/>
            <a:ext cx="1373040" cy="1296720"/>
            <a:chOff x="5562720" y="3733920"/>
            <a:chExt cx="1373040" cy="1296720"/>
          </a:xfrm>
        </p:grpSpPr>
        <p:sp>
          <p:nvSpPr>
            <p:cNvPr id="151" name=""/>
            <p:cNvSpPr/>
            <p:nvPr/>
          </p:nvSpPr>
          <p:spPr>
            <a:xfrm>
              <a:off x="5562720" y="3733920"/>
              <a:ext cx="1373040" cy="1296720"/>
            </a:xfrm>
            <a:custGeom>
              <a:avLst/>
              <a:gdLst/>
              <a:ahLst/>
              <a:rect l="l" t="t" r="r" b="b"/>
              <a:pathLst>
                <a:path w="865" h="817">
                  <a:moveTo>
                    <a:pt x="432" y="0"/>
                  </a:moveTo>
                  <a:lnTo>
                    <a:pt x="0" y="408"/>
                  </a:lnTo>
                  <a:lnTo>
                    <a:pt x="432" y="816"/>
                  </a:lnTo>
                  <a:lnTo>
                    <a:pt x="864" y="408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54760" y="4084560"/>
              <a:ext cx="587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Times New Roman"/>
                </a:rPr>
                <a:t>expBo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934320" y="4113360"/>
            <a:ext cx="763560" cy="269640"/>
          </a:xfrm>
          <a:custGeom>
            <a:avLst/>
            <a:gdLst/>
            <a:ahLst/>
            <a:rect l="l" t="t" r="r" b="b"/>
            <a:pathLst>
              <a:path w="481" h="170">
                <a:moveTo>
                  <a:pt x="0" y="169"/>
                </a:moveTo>
                <a:lnTo>
                  <a:pt x="480" y="169"/>
                </a:lnTo>
                <a:lnTo>
                  <a:pt x="4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373392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589120"/>
            <a:ext cx="1440" cy="1146240"/>
          </a:xfrm>
          <a:custGeom>
            <a:avLst/>
            <a:gdLst/>
            <a:ahLst/>
            <a:rect l="l" t="t" r="r" b="b"/>
            <a:pathLst>
              <a:path w="1" h="722">
                <a:moveTo>
                  <a:pt x="0" y="0"/>
                </a:moveTo>
                <a:lnTo>
                  <a:pt x="0" y="7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502920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819520"/>
            <a:ext cx="1449360" cy="153720"/>
          </a:xfrm>
          <a:custGeom>
            <a:avLst/>
            <a:gdLst/>
            <a:ahLst/>
            <a:rect l="l" t="t" r="r" b="b"/>
            <a:pathLst>
              <a:path w="913" h="97">
                <a:moveTo>
                  <a:pt x="912" y="96"/>
                </a:moveTo>
                <a:lnTo>
                  <a:pt x="91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403560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7120" y="49528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20968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1981080"/>
            <a:ext cx="1440" cy="2304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297180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n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3351240"/>
            <a:ext cx="1800" cy="384120"/>
          </a:xfrm>
          <a:custGeom>
            <a:avLst/>
            <a:gdLst/>
            <a:ahLst/>
            <a:rect l="l" t="t" r="r" b="b"/>
            <a:pathLst>
              <a:path w="1" h="242">
                <a:moveTo>
                  <a:pt x="0" y="241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43160" y="1843200"/>
            <a:ext cx="5354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ascii_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for (ascii_val = 32; ascii_val &lt; 256; ascii_val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\t%c", ascii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f (ascii_val % 9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391520" y="213372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286000"/>
            <a:ext cx="694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num, to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for (num = 1, total = 0; num &lt; 11; total += num, num++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Total de números de1 a 10 é %d\n", tot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91520" y="213372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53600" y="2019240"/>
            <a:ext cx="3163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define N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void serie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static int numero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numero = numero +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return numer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void serie1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static int numero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numero = numero +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return numer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76080" y="2209680"/>
            <a:ext cx="375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void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for(i=1; i &lt;= 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“%u  %u”,serie(), serie1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92800" y="4357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6633"/>
                </a:solidFill>
                <a:uFillTx/>
                <a:latin typeface="Times New Roman"/>
              </a:rPr>
              <a:t>Outpu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334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7150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61722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799400" y="1676520"/>
            <a:ext cx="6793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0" y="4114800"/>
            <a:ext cx="5943600" cy="1828800"/>
          </a:xfrm>
          <a:prstGeom prst="rect">
            <a:avLst/>
          </a:prstGeom>
          <a:solidFill>
            <a:srgbClr val="ff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1828800"/>
            <a:ext cx="5943600" cy="1828800"/>
          </a:xfrm>
          <a:prstGeom prst="rect">
            <a:avLst/>
          </a:prstGeom>
          <a:solidFill>
            <a:srgbClr val="ff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2438280"/>
            <a:ext cx="2668680" cy="382680"/>
          </a:xfrm>
          <a:custGeom>
            <a:avLst/>
            <a:gdLst/>
            <a:ahLst/>
            <a:rect l="l" t="t" r="r" b="b"/>
            <a:pathLst>
              <a:path w="1681" h="241">
                <a:moveTo>
                  <a:pt x="1680" y="240"/>
                </a:moveTo>
                <a:lnTo>
                  <a:pt x="168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FEITO DAS INTERRUP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90920" y="1981080"/>
            <a:ext cx="610920" cy="306360"/>
            <a:chOff x="2590920" y="1981080"/>
            <a:chExt cx="610920" cy="306360"/>
          </a:xfrm>
        </p:grpSpPr>
        <p:sp>
          <p:nvSpPr>
            <p:cNvPr id="183" name=""/>
            <p:cNvSpPr/>
            <p:nvPr/>
          </p:nvSpPr>
          <p:spPr>
            <a:xfrm>
              <a:off x="2590920" y="198108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0" y="192"/>
                  </a:lnTo>
                  <a:lnTo>
                    <a:pt x="384" y="192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9200" y="2033640"/>
              <a:ext cx="4129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14600" y="2819520"/>
            <a:ext cx="763560" cy="534960"/>
            <a:chOff x="2514600" y="2819520"/>
            <a:chExt cx="763560" cy="534960"/>
          </a:xfrm>
        </p:grpSpPr>
        <p:sp>
          <p:nvSpPr>
            <p:cNvPr id="186" name=""/>
            <p:cNvSpPr/>
            <p:nvPr/>
          </p:nvSpPr>
          <p:spPr>
            <a:xfrm>
              <a:off x="2514600" y="2819520"/>
              <a:ext cx="763560" cy="534960"/>
            </a:xfrm>
            <a:custGeom>
              <a:avLst/>
              <a:gdLst/>
              <a:ahLst/>
              <a:rect l="l" t="t" r="r" b="b"/>
              <a:pathLst>
                <a:path w="481" h="337">
                  <a:moveTo>
                    <a:pt x="240" y="0"/>
                  </a:moveTo>
                  <a:lnTo>
                    <a:pt x="0" y="168"/>
                  </a:lnTo>
                  <a:lnTo>
                    <a:pt x="240" y="336"/>
                  </a:lnTo>
                  <a:lnTo>
                    <a:pt x="480" y="168"/>
                  </a:lnTo>
                  <a:lnTo>
                    <a:pt x="24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54360" y="2979720"/>
              <a:ext cx="282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&lt;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895480" y="2286000"/>
            <a:ext cx="180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581280" y="2819520"/>
            <a:ext cx="763560" cy="534960"/>
            <a:chOff x="3581280" y="2819520"/>
            <a:chExt cx="763560" cy="534960"/>
          </a:xfrm>
        </p:grpSpPr>
        <p:sp>
          <p:nvSpPr>
            <p:cNvPr id="190" name=""/>
            <p:cNvSpPr/>
            <p:nvPr/>
          </p:nvSpPr>
          <p:spPr>
            <a:xfrm>
              <a:off x="3581280" y="2819520"/>
              <a:ext cx="763560" cy="534960"/>
            </a:xfrm>
            <a:custGeom>
              <a:avLst/>
              <a:gdLst/>
              <a:ahLst/>
              <a:rect l="l" t="t" r="r" b="b"/>
              <a:pathLst>
                <a:path w="481" h="337">
                  <a:moveTo>
                    <a:pt x="240" y="0"/>
                  </a:moveTo>
                  <a:lnTo>
                    <a:pt x="0" y="168"/>
                  </a:lnTo>
                  <a:lnTo>
                    <a:pt x="240" y="336"/>
                  </a:lnTo>
                  <a:lnTo>
                    <a:pt x="480" y="168"/>
                  </a:lnTo>
                  <a:lnTo>
                    <a:pt x="2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1040" y="2979720"/>
              <a:ext cx="282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==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648320" y="2819520"/>
            <a:ext cx="992160" cy="534960"/>
            <a:chOff x="4648320" y="2819520"/>
            <a:chExt cx="992160" cy="534960"/>
          </a:xfrm>
        </p:grpSpPr>
        <p:sp>
          <p:nvSpPr>
            <p:cNvPr id="193" name=""/>
            <p:cNvSpPr/>
            <p:nvPr/>
          </p:nvSpPr>
          <p:spPr>
            <a:xfrm>
              <a:off x="4648320" y="2819520"/>
              <a:ext cx="992160" cy="534960"/>
            </a:xfrm>
            <a:custGeom>
              <a:avLst/>
              <a:gdLst/>
              <a:ahLst/>
              <a:rect l="l" t="t" r="r" b="b"/>
              <a:pathLst>
                <a:path w="625" h="337">
                  <a:moveTo>
                    <a:pt x="312" y="0"/>
                  </a:moveTo>
                  <a:lnTo>
                    <a:pt x="0" y="168"/>
                  </a:lnTo>
                  <a:lnTo>
                    <a:pt x="312" y="336"/>
                  </a:lnTo>
                  <a:lnTo>
                    <a:pt x="624" y="168"/>
                  </a:lnTo>
                  <a:lnTo>
                    <a:pt x="3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44960" y="2979720"/>
              <a:ext cx="397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%9!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276720" y="3086280"/>
            <a:ext cx="306360" cy="1440"/>
          </a:xfrm>
          <a:custGeom>
            <a:avLst/>
            <a:gdLst/>
            <a:ahLst/>
            <a:rect l="l" t="t" r="r" b="b"/>
            <a:pathLst>
              <a:path w="193" h="1">
                <a:moveTo>
                  <a:pt x="0" y="0"/>
                </a:move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3526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560" y="3276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99680" y="2819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948280" y="2817720"/>
            <a:ext cx="1979640" cy="538200"/>
            <a:chOff x="5948280" y="2817720"/>
            <a:chExt cx="1979640" cy="538200"/>
          </a:xfrm>
        </p:grpSpPr>
        <p:sp>
          <p:nvSpPr>
            <p:cNvPr id="200" name=""/>
            <p:cNvSpPr/>
            <p:nvPr/>
          </p:nvSpPr>
          <p:spPr>
            <a:xfrm>
              <a:off x="5948280" y="2817720"/>
              <a:ext cx="1979640" cy="538200"/>
            </a:xfrm>
            <a:custGeom>
              <a:avLst/>
              <a:gdLst/>
              <a:ahLst/>
              <a:rect l="l" t="t" r="r" b="b"/>
              <a:pathLst>
                <a:path w="1247" h="339">
                  <a:moveTo>
                    <a:pt x="1030" y="0"/>
                  </a:moveTo>
                  <a:lnTo>
                    <a:pt x="1070" y="7"/>
                  </a:lnTo>
                  <a:lnTo>
                    <a:pt x="1110" y="17"/>
                  </a:lnTo>
                  <a:lnTo>
                    <a:pt x="1150" y="30"/>
                  </a:lnTo>
                  <a:lnTo>
                    <a:pt x="1174" y="47"/>
                  </a:lnTo>
                  <a:lnTo>
                    <a:pt x="1198" y="74"/>
                  </a:lnTo>
                  <a:lnTo>
                    <a:pt x="1222" y="105"/>
                  </a:lnTo>
                  <a:lnTo>
                    <a:pt x="1246" y="169"/>
                  </a:lnTo>
                  <a:lnTo>
                    <a:pt x="1222" y="233"/>
                  </a:lnTo>
                  <a:lnTo>
                    <a:pt x="1198" y="260"/>
                  </a:lnTo>
                  <a:lnTo>
                    <a:pt x="1174" y="287"/>
                  </a:lnTo>
                  <a:lnTo>
                    <a:pt x="1150" y="304"/>
                  </a:lnTo>
                  <a:lnTo>
                    <a:pt x="1110" y="321"/>
                  </a:lnTo>
                  <a:lnTo>
                    <a:pt x="1070" y="331"/>
                  </a:lnTo>
                  <a:lnTo>
                    <a:pt x="1030" y="338"/>
                  </a:lnTo>
                  <a:lnTo>
                    <a:pt x="199" y="338"/>
                  </a:lnTo>
                  <a:lnTo>
                    <a:pt x="0" y="169"/>
                  </a:lnTo>
                  <a:lnTo>
                    <a:pt x="199" y="0"/>
                  </a:lnTo>
                  <a:lnTo>
                    <a:pt x="10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37440" y="2871720"/>
              <a:ext cx="118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System.out.println(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57600" y="2286000"/>
            <a:ext cx="611280" cy="306360"/>
            <a:chOff x="3657600" y="2286000"/>
            <a:chExt cx="611280" cy="306360"/>
          </a:xfrm>
        </p:grpSpPr>
        <p:sp>
          <p:nvSpPr>
            <p:cNvPr id="203" name=""/>
            <p:cNvSpPr/>
            <p:nvPr/>
          </p:nvSpPr>
          <p:spPr>
            <a:xfrm>
              <a:off x="3657600" y="228600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0" y="192"/>
                  </a:lnTo>
                  <a:lnTo>
                    <a:pt x="384" y="192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55880" y="2338560"/>
              <a:ext cx="4129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343400" y="3086280"/>
            <a:ext cx="306360" cy="1440"/>
          </a:xfrm>
          <a:custGeom>
            <a:avLst/>
            <a:gdLst/>
            <a:ahLst/>
            <a:rect l="l" t="t" r="r" b="b"/>
            <a:pathLst>
              <a:path w="193" h="1">
                <a:moveTo>
                  <a:pt x="0" y="0"/>
                </a:move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3086280"/>
            <a:ext cx="306360" cy="1440"/>
          </a:xfrm>
          <a:custGeom>
            <a:avLst/>
            <a:gdLst/>
            <a:ahLst/>
            <a:rect l="l" t="t" r="r" b="b"/>
            <a:pathLst>
              <a:path w="193" h="1">
                <a:moveTo>
                  <a:pt x="0" y="0"/>
                </a:move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438280"/>
            <a:ext cx="763560" cy="1800"/>
          </a:xfrm>
          <a:custGeom>
            <a:avLst/>
            <a:gdLst/>
            <a:ahLst/>
            <a:rect l="l" t="t" r="r" b="b"/>
            <a:pathLst>
              <a:path w="481" h="1">
                <a:moveTo>
                  <a:pt x="48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90920" y="3733920"/>
            <a:ext cx="610920" cy="306360"/>
            <a:chOff x="2590920" y="3733920"/>
            <a:chExt cx="610920" cy="306360"/>
          </a:xfrm>
        </p:grpSpPr>
        <p:sp>
          <p:nvSpPr>
            <p:cNvPr id="209" name=""/>
            <p:cNvSpPr/>
            <p:nvPr/>
          </p:nvSpPr>
          <p:spPr>
            <a:xfrm>
              <a:off x="2590920" y="373392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0" y="192"/>
                  </a:lnTo>
                  <a:lnTo>
                    <a:pt x="384" y="192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89200" y="3786120"/>
              <a:ext cx="412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514600" y="4419720"/>
            <a:ext cx="763560" cy="458640"/>
            <a:chOff x="2514600" y="4419720"/>
            <a:chExt cx="763560" cy="458640"/>
          </a:xfrm>
        </p:grpSpPr>
        <p:sp>
          <p:nvSpPr>
            <p:cNvPr id="212" name=""/>
            <p:cNvSpPr/>
            <p:nvPr/>
          </p:nvSpPr>
          <p:spPr>
            <a:xfrm>
              <a:off x="2514600" y="4419720"/>
              <a:ext cx="763560" cy="458640"/>
            </a:xfrm>
            <a:custGeom>
              <a:avLst/>
              <a:gdLst/>
              <a:ahLst/>
              <a:rect l="l" t="t" r="r" b="b"/>
              <a:pathLst>
                <a:path w="481" h="289">
                  <a:moveTo>
                    <a:pt x="240" y="0"/>
                  </a:moveTo>
                  <a:lnTo>
                    <a:pt x="0" y="144"/>
                  </a:lnTo>
                  <a:lnTo>
                    <a:pt x="240" y="288"/>
                  </a:lnTo>
                  <a:lnTo>
                    <a:pt x="480" y="144"/>
                  </a:lnTo>
                  <a:lnTo>
                    <a:pt x="24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54360" y="4560840"/>
              <a:ext cx="28260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590560" y="48769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99680" y="44197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4495680"/>
            <a:ext cx="611280" cy="306360"/>
            <a:chOff x="3657600" y="4495680"/>
            <a:chExt cx="611280" cy="306360"/>
          </a:xfrm>
        </p:grpSpPr>
        <p:sp>
          <p:nvSpPr>
            <p:cNvPr id="217" name=""/>
            <p:cNvSpPr/>
            <p:nvPr/>
          </p:nvSpPr>
          <p:spPr>
            <a:xfrm>
              <a:off x="3657600" y="44956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0" y="192"/>
                  </a:lnTo>
                  <a:lnTo>
                    <a:pt x="384" y="192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55880" y="4548240"/>
              <a:ext cx="4129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48320" y="4495680"/>
            <a:ext cx="610920" cy="306360"/>
            <a:chOff x="4648320" y="4495680"/>
            <a:chExt cx="610920" cy="306360"/>
          </a:xfrm>
        </p:grpSpPr>
        <p:sp>
          <p:nvSpPr>
            <p:cNvPr id="220" name=""/>
            <p:cNvSpPr/>
            <p:nvPr/>
          </p:nvSpPr>
          <p:spPr>
            <a:xfrm>
              <a:off x="4648320" y="4495680"/>
              <a:ext cx="61092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0" y="0"/>
                  </a:moveTo>
                  <a:lnTo>
                    <a:pt x="0" y="192"/>
                  </a:lnTo>
                  <a:lnTo>
                    <a:pt x="384" y="192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46600" y="4548240"/>
              <a:ext cx="4129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=i*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429000" y="5181480"/>
            <a:ext cx="1068480" cy="534960"/>
            <a:chOff x="3429000" y="5181480"/>
            <a:chExt cx="1068480" cy="534960"/>
          </a:xfrm>
        </p:grpSpPr>
        <p:sp>
          <p:nvSpPr>
            <p:cNvPr id="223" name=""/>
            <p:cNvSpPr/>
            <p:nvPr/>
          </p:nvSpPr>
          <p:spPr>
            <a:xfrm>
              <a:off x="3429000" y="5181480"/>
              <a:ext cx="1068480" cy="534960"/>
            </a:xfrm>
            <a:custGeom>
              <a:avLst/>
              <a:gdLst/>
              <a:ahLst/>
              <a:rect l="l" t="t" r="r" b="b"/>
              <a:pathLst>
                <a:path w="673" h="337">
                  <a:moveTo>
                    <a:pt x="336" y="0"/>
                  </a:moveTo>
                  <a:lnTo>
                    <a:pt x="0" y="168"/>
                  </a:lnTo>
                  <a:lnTo>
                    <a:pt x="336" y="336"/>
                  </a:lnTo>
                  <a:lnTo>
                    <a:pt x="672" y="168"/>
                  </a:lnTo>
                  <a:lnTo>
                    <a:pt x="3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5080" y="5342040"/>
              <a:ext cx="43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==12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648320" y="5181480"/>
            <a:ext cx="992160" cy="534960"/>
            <a:chOff x="4648320" y="5181480"/>
            <a:chExt cx="992160" cy="534960"/>
          </a:xfrm>
        </p:grpSpPr>
        <p:sp>
          <p:nvSpPr>
            <p:cNvPr id="226" name=""/>
            <p:cNvSpPr/>
            <p:nvPr/>
          </p:nvSpPr>
          <p:spPr>
            <a:xfrm>
              <a:off x="4648320" y="5181480"/>
              <a:ext cx="992160" cy="534960"/>
            </a:xfrm>
            <a:custGeom>
              <a:avLst/>
              <a:gdLst/>
              <a:ahLst/>
              <a:rect l="l" t="t" r="r" b="b"/>
              <a:pathLst>
                <a:path w="625" h="337">
                  <a:moveTo>
                    <a:pt x="312" y="0"/>
                  </a:moveTo>
                  <a:lnTo>
                    <a:pt x="0" y="168"/>
                  </a:lnTo>
                  <a:lnTo>
                    <a:pt x="312" y="336"/>
                  </a:lnTo>
                  <a:lnTo>
                    <a:pt x="624" y="168"/>
                  </a:lnTo>
                  <a:lnTo>
                    <a:pt x="3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44960" y="5342040"/>
              <a:ext cx="397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%10!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948280" y="5186520"/>
            <a:ext cx="1979640" cy="531720"/>
            <a:chOff x="5948280" y="5186520"/>
            <a:chExt cx="1979640" cy="531720"/>
          </a:xfrm>
        </p:grpSpPr>
        <p:sp>
          <p:nvSpPr>
            <p:cNvPr id="229" name=""/>
            <p:cNvSpPr/>
            <p:nvPr/>
          </p:nvSpPr>
          <p:spPr>
            <a:xfrm>
              <a:off x="5948280" y="5186520"/>
              <a:ext cx="1979640" cy="531720"/>
            </a:xfrm>
            <a:custGeom>
              <a:avLst/>
              <a:gdLst/>
              <a:ahLst/>
              <a:rect l="l" t="t" r="r" b="b"/>
              <a:pathLst>
                <a:path w="1247" h="335">
                  <a:moveTo>
                    <a:pt x="1030" y="0"/>
                  </a:moveTo>
                  <a:lnTo>
                    <a:pt x="1070" y="6"/>
                  </a:lnTo>
                  <a:lnTo>
                    <a:pt x="1110" y="11"/>
                  </a:lnTo>
                  <a:lnTo>
                    <a:pt x="1150" y="29"/>
                  </a:lnTo>
                  <a:lnTo>
                    <a:pt x="1174" y="46"/>
                  </a:lnTo>
                  <a:lnTo>
                    <a:pt x="1198" y="75"/>
                  </a:lnTo>
                  <a:lnTo>
                    <a:pt x="1222" y="104"/>
                  </a:lnTo>
                  <a:lnTo>
                    <a:pt x="1246" y="167"/>
                  </a:lnTo>
                  <a:lnTo>
                    <a:pt x="1222" y="225"/>
                  </a:lnTo>
                  <a:lnTo>
                    <a:pt x="1198" y="253"/>
                  </a:lnTo>
                  <a:lnTo>
                    <a:pt x="1174" y="282"/>
                  </a:lnTo>
                  <a:lnTo>
                    <a:pt x="1150" y="299"/>
                  </a:lnTo>
                  <a:lnTo>
                    <a:pt x="1110" y="317"/>
                  </a:lnTo>
                  <a:lnTo>
                    <a:pt x="1030" y="334"/>
                  </a:lnTo>
                  <a:lnTo>
                    <a:pt x="199" y="334"/>
                  </a:lnTo>
                  <a:lnTo>
                    <a:pt x="0" y="167"/>
                  </a:lnTo>
                  <a:lnTo>
                    <a:pt x="199" y="0"/>
                  </a:lnTo>
                  <a:lnTo>
                    <a:pt x="10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37440" y="5234040"/>
              <a:ext cx="11872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System.out.println(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495680" y="5448240"/>
            <a:ext cx="154080" cy="1800"/>
          </a:xfrm>
          <a:custGeom>
            <a:avLst/>
            <a:gdLst/>
            <a:ahLst/>
            <a:rect l="l" t="t" r="r" b="b"/>
            <a:pathLst>
              <a:path w="97" h="1">
                <a:moveTo>
                  <a:pt x="0" y="0"/>
                </a:moveTo>
                <a:lnTo>
                  <a:pt x="9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448240"/>
            <a:ext cx="306360" cy="1800"/>
          </a:xfrm>
          <a:custGeom>
            <a:avLst/>
            <a:gdLst/>
            <a:ahLst/>
            <a:rect l="l" t="t" r="r" b="b"/>
            <a:pathLst>
              <a:path w="193" h="1">
                <a:moveTo>
                  <a:pt x="0" y="0"/>
                </a:move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40384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4648320"/>
            <a:ext cx="382320" cy="1440"/>
          </a:xfrm>
          <a:custGeom>
            <a:avLst/>
            <a:gdLst/>
            <a:ahLst/>
            <a:rect l="l" t="t" r="r" b="b"/>
            <a:pathLst>
              <a:path w="241" h="1">
                <a:moveTo>
                  <a:pt x="0" y="0"/>
                </a:moveTo>
                <a:lnTo>
                  <a:pt x="2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4648320"/>
            <a:ext cx="382680" cy="1440"/>
          </a:xfrm>
          <a:custGeom>
            <a:avLst/>
            <a:gdLst/>
            <a:ahLst/>
            <a:rect l="l" t="t" r="r" b="b"/>
            <a:pathLst>
              <a:path w="241" h="1">
                <a:moveTo>
                  <a:pt x="0" y="0"/>
                </a:moveTo>
                <a:lnTo>
                  <a:pt x="2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59160" y="28195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360" y="28195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1440" y="51814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0760" y="51814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200" y="32767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200" y="32767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3200" y="5638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98160" y="5638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4648320"/>
            <a:ext cx="1525320" cy="534960"/>
          </a:xfrm>
          <a:custGeom>
            <a:avLst/>
            <a:gdLst/>
            <a:ahLst/>
            <a:rect l="l" t="t" r="r" b="b"/>
            <a:pathLst>
              <a:path w="961" h="337">
                <a:moveTo>
                  <a:pt x="816" y="0"/>
                </a:moveTo>
                <a:lnTo>
                  <a:pt x="960" y="0"/>
                </a:lnTo>
                <a:lnTo>
                  <a:pt x="960" y="216"/>
                </a:lnTo>
                <a:lnTo>
                  <a:pt x="0" y="216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17920" y="1600200"/>
            <a:ext cx="560160" cy="152280"/>
          </a:xfrm>
          <a:custGeom>
            <a:avLst/>
            <a:gdLst/>
            <a:ahLst/>
            <a:rect l="l" t="t" r="r" b="b"/>
            <a:pathLst>
              <a:path w="353" h="96">
                <a:moveTo>
                  <a:pt x="57" y="0"/>
                </a:moveTo>
                <a:lnTo>
                  <a:pt x="45" y="2"/>
                </a:lnTo>
                <a:lnTo>
                  <a:pt x="35" y="3"/>
                </a:lnTo>
                <a:lnTo>
                  <a:pt x="16" y="14"/>
                </a:lnTo>
                <a:lnTo>
                  <a:pt x="3" y="28"/>
                </a:lnTo>
                <a:lnTo>
                  <a:pt x="0" y="47"/>
                </a:lnTo>
                <a:lnTo>
                  <a:pt x="3" y="67"/>
                </a:lnTo>
                <a:lnTo>
                  <a:pt x="16" y="83"/>
                </a:lnTo>
                <a:lnTo>
                  <a:pt x="35" y="92"/>
                </a:lnTo>
                <a:lnTo>
                  <a:pt x="45" y="95"/>
                </a:lnTo>
                <a:lnTo>
                  <a:pt x="57" y="95"/>
                </a:lnTo>
                <a:lnTo>
                  <a:pt x="294" y="95"/>
                </a:lnTo>
                <a:lnTo>
                  <a:pt x="307" y="95"/>
                </a:lnTo>
                <a:lnTo>
                  <a:pt x="317" y="92"/>
                </a:lnTo>
                <a:lnTo>
                  <a:pt x="336" y="83"/>
                </a:lnTo>
                <a:lnTo>
                  <a:pt x="349" y="67"/>
                </a:lnTo>
                <a:lnTo>
                  <a:pt x="352" y="47"/>
                </a:lnTo>
                <a:lnTo>
                  <a:pt x="349" y="28"/>
                </a:lnTo>
                <a:lnTo>
                  <a:pt x="336" y="14"/>
                </a:lnTo>
                <a:lnTo>
                  <a:pt x="317" y="3"/>
                </a:lnTo>
                <a:lnTo>
                  <a:pt x="307" y="2"/>
                </a:lnTo>
                <a:lnTo>
                  <a:pt x="294" y="0"/>
                </a:lnTo>
                <a:lnTo>
                  <a:pt x="5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27280" y="6014880"/>
            <a:ext cx="563760" cy="160560"/>
          </a:xfrm>
          <a:custGeom>
            <a:avLst/>
            <a:gdLst/>
            <a:ahLst/>
            <a:rect l="l" t="t" r="r" b="b"/>
            <a:pathLst>
              <a:path w="355" h="101">
                <a:moveTo>
                  <a:pt x="58" y="0"/>
                </a:moveTo>
                <a:lnTo>
                  <a:pt x="36" y="7"/>
                </a:lnTo>
                <a:lnTo>
                  <a:pt x="16" y="19"/>
                </a:lnTo>
                <a:lnTo>
                  <a:pt x="4" y="32"/>
                </a:lnTo>
                <a:lnTo>
                  <a:pt x="0" y="50"/>
                </a:lnTo>
                <a:lnTo>
                  <a:pt x="4" y="69"/>
                </a:lnTo>
                <a:lnTo>
                  <a:pt x="16" y="88"/>
                </a:lnTo>
                <a:lnTo>
                  <a:pt x="36" y="94"/>
                </a:lnTo>
                <a:lnTo>
                  <a:pt x="58" y="100"/>
                </a:lnTo>
                <a:lnTo>
                  <a:pt x="296" y="100"/>
                </a:lnTo>
                <a:lnTo>
                  <a:pt x="319" y="94"/>
                </a:lnTo>
                <a:lnTo>
                  <a:pt x="338" y="88"/>
                </a:lnTo>
                <a:lnTo>
                  <a:pt x="351" y="69"/>
                </a:lnTo>
                <a:lnTo>
                  <a:pt x="354" y="50"/>
                </a:lnTo>
                <a:lnTo>
                  <a:pt x="351" y="32"/>
                </a:lnTo>
                <a:lnTo>
                  <a:pt x="338" y="19"/>
                </a:lnTo>
                <a:lnTo>
                  <a:pt x="319" y="7"/>
                </a:lnTo>
                <a:lnTo>
                  <a:pt x="296" y="0"/>
                </a:lnTo>
                <a:lnTo>
                  <a:pt x="5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752480"/>
            <a:ext cx="1800" cy="2304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191120"/>
            <a:ext cx="4040280" cy="992160"/>
          </a:xfrm>
          <a:custGeom>
            <a:avLst/>
            <a:gdLst/>
            <a:ahLst/>
            <a:rect l="l" t="t" r="r" b="b"/>
            <a:pathLst>
              <a:path w="2545" h="625">
                <a:moveTo>
                  <a:pt x="2544" y="624"/>
                </a:moveTo>
                <a:lnTo>
                  <a:pt x="254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352680"/>
            <a:ext cx="1068480" cy="230400"/>
          </a:xfrm>
          <a:custGeom>
            <a:avLst/>
            <a:gdLst/>
            <a:ahLst/>
            <a:rect l="l" t="t" r="r" b="b"/>
            <a:pathLst>
              <a:path w="673" h="145">
                <a:moveTo>
                  <a:pt x="672" y="0"/>
                </a:moveTo>
                <a:lnTo>
                  <a:pt x="672" y="144"/>
                </a:lnTo>
                <a:lnTo>
                  <a:pt x="0" y="1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08440" y="5715000"/>
            <a:ext cx="1055520" cy="306360"/>
          </a:xfrm>
          <a:custGeom>
            <a:avLst/>
            <a:gdLst/>
            <a:ahLst/>
            <a:rect l="l" t="t" r="r" b="b"/>
            <a:pathLst>
              <a:path w="665" h="193">
                <a:moveTo>
                  <a:pt x="664" y="0"/>
                </a:moveTo>
                <a:lnTo>
                  <a:pt x="664" y="96"/>
                </a:lnTo>
                <a:lnTo>
                  <a:pt x="0" y="96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43680" y="4191120"/>
            <a:ext cx="2933640" cy="1663560"/>
          </a:xfrm>
          <a:custGeom>
            <a:avLst/>
            <a:gdLst/>
            <a:ahLst/>
            <a:rect l="l" t="t" r="r" b="b"/>
            <a:pathLst>
              <a:path w="1848" h="1048">
                <a:moveTo>
                  <a:pt x="0" y="960"/>
                </a:moveTo>
                <a:lnTo>
                  <a:pt x="0" y="1047"/>
                </a:lnTo>
                <a:lnTo>
                  <a:pt x="1847" y="1047"/>
                </a:lnTo>
                <a:lnTo>
                  <a:pt x="1847" y="0"/>
                </a:lnTo>
                <a:lnTo>
                  <a:pt x="112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3680" y="2438280"/>
            <a:ext cx="2920680" cy="1144800"/>
          </a:xfrm>
          <a:custGeom>
            <a:avLst/>
            <a:gdLst/>
            <a:ahLst/>
            <a:rect l="l" t="t" r="r" b="b"/>
            <a:pathLst>
              <a:path w="1840" h="721">
                <a:moveTo>
                  <a:pt x="0" y="576"/>
                </a:moveTo>
                <a:lnTo>
                  <a:pt x="0" y="720"/>
                </a:lnTo>
                <a:lnTo>
                  <a:pt x="1839" y="720"/>
                </a:lnTo>
                <a:lnTo>
                  <a:pt x="1839" y="0"/>
                </a:lnTo>
                <a:lnTo>
                  <a:pt x="112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10320" y="335124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6440" y="565164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1920" y="5600880"/>
            <a:ext cx="803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1920" y="3327480"/>
            <a:ext cx="803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59600" y="1946160"/>
            <a:ext cx="54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6480" y="4384800"/>
            <a:ext cx="86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RCÍCI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1440" y="3200400"/>
            <a:ext cx="692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bora uma função que permita l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ras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fab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bora uma função que permita l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úm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87320" y="1981080"/>
            <a:ext cx="43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996633"/>
                </a:solidFill>
                <a:latin typeface="Times New Roman"/>
              </a:rPr>
              <a:t>Para elaborar as seguintes fun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996633"/>
                </a:solidFill>
                <a:latin typeface="Times New Roman"/>
              </a:rPr>
              <a:t>deves recorrer à livraria ctype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48760" y="5254560"/>
            <a:ext cx="50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As funções devem permitir eliminar caracter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terminar a introdução com ESC ou ENTER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definir um compriment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RCÍCI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36040" y="2286000"/>
            <a:ext cx="714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bora um programa que cumpra as funções bá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uma calcul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nta alterar a calculadora anterior e procura constr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com funções cient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IAGRAMA DO CON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145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condição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instrução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condição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instrução1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instrução2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2209680"/>
            <a:ext cx="1373040" cy="1297080"/>
            <a:chOff x="5105520" y="2209680"/>
            <a:chExt cx="1373040" cy="1297080"/>
          </a:xfrm>
        </p:grpSpPr>
        <p:sp>
          <p:nvSpPr>
            <p:cNvPr id="46" name=""/>
            <p:cNvSpPr/>
            <p:nvPr/>
          </p:nvSpPr>
          <p:spPr>
            <a:xfrm>
              <a:off x="5105520" y="2209680"/>
              <a:ext cx="1373040" cy="1297080"/>
            </a:xfrm>
            <a:custGeom>
              <a:avLst/>
              <a:gdLst/>
              <a:ahLst/>
              <a:rect l="l" t="t" r="r" b="b"/>
              <a:pathLst>
                <a:path w="865" h="817">
                  <a:moveTo>
                    <a:pt x="432" y="0"/>
                  </a:moveTo>
                  <a:lnTo>
                    <a:pt x="0" y="408"/>
                  </a:lnTo>
                  <a:lnTo>
                    <a:pt x="432" y="816"/>
                  </a:lnTo>
                  <a:lnTo>
                    <a:pt x="864" y="408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97560" y="2560680"/>
              <a:ext cx="5868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di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477120" y="2857680"/>
            <a:ext cx="839520" cy="268200"/>
          </a:xfrm>
          <a:custGeom>
            <a:avLst/>
            <a:gdLst/>
            <a:ahLst/>
            <a:rect l="l" t="t" r="r" b="b"/>
            <a:pathLst>
              <a:path w="529" h="169">
                <a:moveTo>
                  <a:pt x="0" y="0"/>
                </a:moveTo>
                <a:lnTo>
                  <a:pt x="528" y="0"/>
                </a:lnTo>
                <a:lnTo>
                  <a:pt x="528" y="1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3124080"/>
            <a:ext cx="121896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1981080"/>
            <a:ext cx="1440" cy="2304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3505320"/>
            <a:ext cx="1440" cy="38232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3503520"/>
            <a:ext cx="1525320" cy="158760"/>
          </a:xfrm>
          <a:custGeom>
            <a:avLst/>
            <a:gdLst/>
            <a:ahLst/>
            <a:rect l="l" t="t" r="r" b="b"/>
            <a:pathLst>
              <a:path w="961" h="100">
                <a:moveTo>
                  <a:pt x="960" y="0"/>
                </a:moveTo>
                <a:lnTo>
                  <a:pt x="960" y="99"/>
                </a:lnTo>
                <a:lnTo>
                  <a:pt x="0" y="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105520" y="4419720"/>
            <a:ext cx="1373040" cy="1296720"/>
            <a:chOff x="5105520" y="4419720"/>
            <a:chExt cx="1373040" cy="1296720"/>
          </a:xfrm>
        </p:grpSpPr>
        <p:sp>
          <p:nvSpPr>
            <p:cNvPr id="54" name=""/>
            <p:cNvSpPr/>
            <p:nvPr/>
          </p:nvSpPr>
          <p:spPr>
            <a:xfrm>
              <a:off x="5105520" y="4419720"/>
              <a:ext cx="1373040" cy="1296720"/>
            </a:xfrm>
            <a:custGeom>
              <a:avLst/>
              <a:gdLst/>
              <a:ahLst/>
              <a:rect l="l" t="t" r="r" b="b"/>
              <a:pathLst>
                <a:path w="865" h="817">
                  <a:moveTo>
                    <a:pt x="432" y="0"/>
                  </a:moveTo>
                  <a:lnTo>
                    <a:pt x="0" y="408"/>
                  </a:lnTo>
                  <a:lnTo>
                    <a:pt x="432" y="816"/>
                  </a:lnTo>
                  <a:lnTo>
                    <a:pt x="864" y="408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97560" y="4770360"/>
              <a:ext cx="5868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di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477120" y="5067360"/>
            <a:ext cx="839520" cy="268200"/>
          </a:xfrm>
          <a:custGeom>
            <a:avLst/>
            <a:gdLst/>
            <a:ahLst/>
            <a:rect l="l" t="t" r="r" b="b"/>
            <a:pathLst>
              <a:path w="529" h="169">
                <a:moveTo>
                  <a:pt x="0" y="0"/>
                </a:moveTo>
                <a:lnTo>
                  <a:pt x="528" y="0"/>
                </a:lnTo>
                <a:lnTo>
                  <a:pt x="528" y="1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334120"/>
            <a:ext cx="121896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40384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5715000"/>
            <a:ext cx="1440" cy="611280"/>
          </a:xfrm>
          <a:custGeom>
            <a:avLst/>
            <a:gdLst/>
            <a:ahLst/>
            <a:rect l="l" t="t" r="r" b="b"/>
            <a:pathLst>
              <a:path w="1" h="385">
                <a:moveTo>
                  <a:pt x="0" y="0"/>
                </a:move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5713560"/>
            <a:ext cx="1525320" cy="385560"/>
          </a:xfrm>
          <a:custGeom>
            <a:avLst/>
            <a:gdLst/>
            <a:ahLst/>
            <a:rect l="l" t="t" r="r" b="b"/>
            <a:pathLst>
              <a:path w="961" h="243">
                <a:moveTo>
                  <a:pt x="960" y="0"/>
                </a:moveTo>
                <a:lnTo>
                  <a:pt x="960" y="242"/>
                </a:lnTo>
                <a:lnTo>
                  <a:pt x="0" y="2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067360"/>
            <a:ext cx="839880" cy="266760"/>
          </a:xfrm>
          <a:custGeom>
            <a:avLst/>
            <a:gdLst/>
            <a:ahLst/>
            <a:rect l="l" t="t" r="r" b="b"/>
            <a:pathLst>
              <a:path w="529" h="168">
                <a:moveTo>
                  <a:pt x="528" y="0"/>
                </a:moveTo>
                <a:lnTo>
                  <a:pt x="0" y="0"/>
                </a:lnTo>
                <a:lnTo>
                  <a:pt x="0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533232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5711760"/>
            <a:ext cx="1525680" cy="385920"/>
          </a:xfrm>
          <a:custGeom>
            <a:avLst/>
            <a:gdLst/>
            <a:ahLst/>
            <a:rect l="l" t="t" r="r" b="b"/>
            <a:pathLst>
              <a:path w="961" h="243">
                <a:moveTo>
                  <a:pt x="0" y="0"/>
                </a:moveTo>
                <a:lnTo>
                  <a:pt x="0" y="242"/>
                </a:lnTo>
                <a:lnTo>
                  <a:pt x="960" y="2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51136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79920" y="34290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7386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73868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2520" y="1143000"/>
            <a:ext cx="512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nguagem C suporta dois tipos de control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ASO PRÁTICO 1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5040" y="1967040"/>
            <a:ext cx="6208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nt a, b, 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har op, *err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\nCALCULA (versão 2.0)\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Este programa ‚ parte integrante do ensino aprendizagem.\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Tem como objectivo resolver expressões do tipo: a+b, a-b, a*b, a/b.\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As letras (a) e (b) representam um número inteiro.\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Por defeito o inteiro ‚ decimal, poder  ser octal se for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precedido de um 0,\nou ainda hexadecimal se precedido de 0x ou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0X.\nO resultado ‚ sempre mostrado nas três bases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1052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ASO PRÁTICO 1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11600" y="2057400"/>
            <a:ext cx="3431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\nDigite a expressão --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canf("%i%c%i", &amp;a ,&amp;op, &amp;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rro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witch (o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+': r=a+b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-': r=a-b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*': r=a*b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/'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f (b) r=a/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lse erro="divisão por zero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efault: erro="expressão inválida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ASO PRÁTICO 1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32080" y="2119320"/>
            <a:ext cx="74293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f (erro) printf("\nERRO: %s\n", err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(dec)  %d %c %d = %d\n", a, op, b, 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(oct)  %o %c %o = %o\n", a, op, b, 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(hex)  %x %c %x = %x\n", a, op, b, 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lushal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Deseja efectuar outra operação (s/n) ?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p=getch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 while (op!='s' &amp;&amp; op!='S' &amp;&amp; op!='n' &amp;&amp; op!='N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 while (op!='n' &amp;&amp; op!='N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ESCOLA SECUNDÁRIA EMIDIONAVARRO\n\n\n\n\n\n\n\n\n\n\n\n\n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ASO PRÁTICO 2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6280" y="2438280"/>
            <a:ext cx="743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 linha anterior inclui o ficheiro stdio.h (STanDard I/O), dele 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utilizadas as seguintes funções no nosso progra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- Escreve no output (ecrã) de uma forma forma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scan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- Lê do input (teclado) de uma forma forma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flushall      - Limpa todos os buff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getche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- Lê um caracter do teclado e mostra-o no ecrã na pos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orrente do cur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7391520" y="121932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ASO PRÁTICO 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16440" y="2119320"/>
            <a:ext cx="6208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nt a, b, 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har op, *erro;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erro ‚ um pointer para cha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\nCALCULA (vers„o 2.0)\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Este programa ‚ é parte integrante do curso de C das nossas aulas.\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Tem como objectivo resolver expressões do tipo: a+b, a-b, a*b, a/b.\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As letras (a) e (b) representam um número inteiro.\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Por defeito o inteiro ‚ decimal, poder  ser octal se for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precedido de um 0,\n ou ainda hexadecimal se precedido de 0x ou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"0X.\nO resultado ‚ sempre mostrado nas três bases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737480" y="2590920"/>
            <a:ext cx="987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ASO PRÁTICO 2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37960" y="2271600"/>
            <a:ext cx="7594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o {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inicio de um ciclo do-wh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\nDigite a express„o --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canf("%i%c%i", &amp;a ,&amp;op, &amp;b);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lê input formatado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rro=NULL;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erro aponta para NUL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witch (op) {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verifica o operad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+': r=a+b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-': r=a-b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*': r=a*b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/':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toma precauções contra a divisão por zero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f (b) r=a/b;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se b n„o for zero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lse erro="divisão por zero";  /* caso contrario faz-se erro aponta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      /* para uma strin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efault: erro="express„o inv lida";  /* se op não for nenhum dos oper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sperados, faz erro apontar para uma strin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543800" y="28954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ASO PRÁTICO 2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01520" y="1371600"/>
            <a:ext cx="77457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f (erro) printf("\nERRO: %s\n", erro); /* se erro não for NULL, envia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 ecrã a mensagem de erro apontada por erro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/* caso contrario (erro==NULL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(dec)  %d %c %d = %d\n", a, op, b, 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(oct)  %o %c %o = %o\n", a, op, b, 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(hex)  %x %c %x = %x\n", a, op, b, 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flushall();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limpa o buffer do teclado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faz o ciclo enquanto as teclas pressionadas não forem s, S, n ou 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Deseja efectuar outra operação (s/n) ?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p=getche();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/* lê uma tecl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 while (op!='s' &amp;&amp; op!='S' &amp;&amp; op!='n' &amp;&amp; op!='N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 while (op!='n' &amp;&amp; op!='N');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/* enquanto op for diferente de 'n' e de 'N'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Escola Emídio Navarro\n\n\n\n\n\n\n\n\n\n\n\n\n\n\n\n\n\n\n\n\n\n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696080" y="3352680"/>
            <a:ext cx="11052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Objectivos do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51240" y="2286000"/>
            <a:ext cx="64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 aluno deve ser capaz de converter os segui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lgoritmos para linguagem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35760" y="3809880"/>
            <a:ext cx="603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 aluno deve ser capaz de criar algoritmos 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resolução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8840" y="5257800"/>
            <a:ext cx="53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 aluno deve ser estruturado e metód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icha de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62600" y="1789200"/>
            <a:ext cx="5949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a dos números pares compreendidos entre 2 e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MA + NU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ERO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É NUMERO &gt;=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EVER(SO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icha de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9880" y="1676520"/>
            <a:ext cx="6872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r a média de uma série de números positivos supondo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dados se lêem de um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D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(D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QUANTO DADO &lt;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D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DOR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MA + D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(D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M ENQU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MA / CO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EVER(SO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37520" y="1614600"/>
            <a:ext cx="5927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“Insira um número : “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scanf(“%d”,&amp;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if(num % 2 = = 0)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printf(“O número é par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if(num % 2 =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“O número é ímpa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“Isto é, o número não é par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15200" y="182880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icha de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7720" y="1447920"/>
            <a:ext cx="641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a um algoritmo para gerar os primeiros M números prim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       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T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       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QUANTO R &lt;&gt; 0  e D &lt;= INT(N/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 - INT(N/D) *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M ENQUA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R &lt;&gt; 0 EN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R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M 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É I =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icha de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26880" y="2057400"/>
            <a:ext cx="720468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roblema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strói um algoritmo para exibir M elementos da série de Fibonac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LER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PT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1 </a:t>
            </a:r>
            <a:r>
              <a:rPr b="0" lang="pt-PT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CREVER(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ARA I </a:t>
            </a:r>
            <a:r>
              <a:rPr b="0" lang="pt-PT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2 ATÉ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2 </a:t>
            </a:r>
            <a:r>
              <a:rPr b="0" lang="pt-PT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1 </a:t>
            </a:r>
            <a:r>
              <a:rPr b="0" lang="pt-PT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PT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F + 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CREVER(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icha de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28320" y="1828800"/>
            <a:ext cx="76971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 um algoritmo, em fluxograma e pseudocódigo, que perm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introdução de dois números e visualizar o ma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ós a elaboração do algoritmo codifique-o em linguagem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 um algoritmo, fluxograma e pseudocódigo que permita introduz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 número associado aos dias da semana (1,2,3, …, 7) e visualizar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 do dia correspon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ós a elaboração do algoritmo codifique-o em linguagem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 um algoritmo, fluxograma e pseudocódigo que permita deter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édia aritmética de um conjunto de N notas de um dado cur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ós a elaboração do algoritmo codifique-o em linguagem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icha de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28320" y="1828800"/>
            <a:ext cx="769716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roblema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abora um algoritmo, em fluxograma e pseudocódigo, que perm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terminar a média aritmética de um conjunto de N notas de um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tilizando a estrutura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repetir .. A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ós a elaboração do algoritmo codifique-o em linguagem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roblema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abora um algoritmo, fluxograma e pseudocódigo que permita apres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soma dos números ímpares inferiores a 1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pós a elaboração do algoritmo codifique-o em linguagem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37520" y="1614600"/>
            <a:ext cx="5927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“Insira um número : “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scanf(“%d”,&amp;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if(num % 2 = = 0)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printf(“O número é par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“O número é ímpa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“Isto é, o número não é par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43800" y="2209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523880"/>
            <a:ext cx="6568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include &lt;con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include &lt;ctype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void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har cm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”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cheiro    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ditar       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er          </a:t>
            </a: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i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"\nEscolha a opção desejada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md = toupper(getch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f (cmd == ’F')  printf(”Manipulação de ficheiros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else if (cmd == ’E') printf(”Editar  ficheiro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else if (cmd == 'S') printf(”Sair do programa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else if (cmd == ’V') printf(”Visualizar o ficheiro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else printf(”Escolha inválida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iagrama de Selecção Generaliz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5816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witch(</a:t>
            </a:r>
            <a:r>
              <a:rPr b="0" lang="pt-PT" sz="2400" spc="-1" strike="noStrike">
                <a:solidFill>
                  <a:srgbClr val="000000"/>
                </a:solidFill>
                <a:latin typeface="CheltenhamITCbyBT-Bold;Cheltenh"/>
              </a:rPr>
              <a:t>selector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lang="pt-PT" sz="2400" spc="-1" strike="noStrike">
                <a:solidFill>
                  <a:srgbClr val="000000"/>
                </a:solidFill>
                <a:latin typeface="CheltenhamITCbyBT-Bold;Cheltenh"/>
              </a:rPr>
              <a:t>valor1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strução1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lang="pt-PT" sz="2400" spc="-1" strike="noStrike">
                <a:solidFill>
                  <a:srgbClr val="000000"/>
                </a:solidFill>
                <a:latin typeface="CheltenhamITCbyBT-Bold;Cheltenh"/>
              </a:rPr>
              <a:t>valor2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strução2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lang="pt-PT" sz="2400" spc="-1" strike="noStrike">
                <a:solidFill>
                  <a:srgbClr val="000000"/>
                </a:solidFill>
                <a:latin typeface="CheltenhamITCbyBT-Bold;Cheltenh"/>
              </a:rPr>
              <a:t>valor3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strução3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default: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strução4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454824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706920"/>
            <a:ext cx="1800" cy="842760"/>
          </a:xfrm>
          <a:custGeom>
            <a:avLst/>
            <a:gdLst/>
            <a:ahLst/>
            <a:rect l="l" t="t" r="r" b="b"/>
            <a:pathLst>
              <a:path w="1" h="531">
                <a:moveTo>
                  <a:pt x="0" y="0"/>
                </a:moveTo>
                <a:lnTo>
                  <a:pt x="0" y="53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5853240"/>
            <a:ext cx="1800" cy="320400"/>
          </a:xfrm>
          <a:custGeom>
            <a:avLst/>
            <a:gdLst/>
            <a:ahLst/>
            <a:rect l="l" t="t" r="r" b="b"/>
            <a:pathLst>
              <a:path w="1" h="202">
                <a:moveTo>
                  <a:pt x="0" y="0"/>
                </a:moveTo>
                <a:lnTo>
                  <a:pt x="0" y="2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927680"/>
            <a:ext cx="1602000" cy="1004760"/>
          </a:xfrm>
          <a:custGeom>
            <a:avLst/>
            <a:gdLst/>
            <a:ahLst/>
            <a:rect l="l" t="t" r="r" b="b"/>
            <a:pathLst>
              <a:path w="1009" h="633">
                <a:moveTo>
                  <a:pt x="1008" y="0"/>
                </a:moveTo>
                <a:lnTo>
                  <a:pt x="1008" y="632"/>
                </a:lnTo>
                <a:lnTo>
                  <a:pt x="0" y="6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9117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95960" y="1714680"/>
            <a:ext cx="1144440" cy="1081080"/>
            <a:chOff x="5295960" y="1714680"/>
            <a:chExt cx="1144440" cy="1081080"/>
          </a:xfrm>
        </p:grpSpPr>
        <p:sp>
          <p:nvSpPr>
            <p:cNvPr id="86" name=""/>
            <p:cNvSpPr/>
            <p:nvPr/>
          </p:nvSpPr>
          <p:spPr>
            <a:xfrm>
              <a:off x="5295960" y="1714680"/>
              <a:ext cx="1144440" cy="1081080"/>
            </a:xfrm>
            <a:custGeom>
              <a:avLst/>
              <a:gdLst/>
              <a:ahLst/>
              <a:rect l="l" t="t" r="r" b="b"/>
              <a:pathLst>
                <a:path w="721" h="681">
                  <a:moveTo>
                    <a:pt x="360" y="0"/>
                  </a:moveTo>
                  <a:lnTo>
                    <a:pt x="0" y="340"/>
                  </a:lnTo>
                  <a:lnTo>
                    <a:pt x="360" y="680"/>
                  </a:lnTo>
                  <a:lnTo>
                    <a:pt x="720" y="340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30760" y="2011320"/>
              <a:ext cx="4730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=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o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867280" y="2793960"/>
            <a:ext cx="1800" cy="179280"/>
          </a:xfrm>
          <a:custGeom>
            <a:avLst/>
            <a:gdLst/>
            <a:ahLst/>
            <a:rect l="l" t="t" r="r" b="b"/>
            <a:pathLst>
              <a:path w="1" h="113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20968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26668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4051440"/>
            <a:ext cx="1800" cy="141120"/>
          </a:xfrm>
          <a:custGeom>
            <a:avLst/>
            <a:gdLst/>
            <a:ahLst/>
            <a:rect l="l" t="t" r="r" b="b"/>
            <a:pathLst>
              <a:path w="1" h="89">
                <a:moveTo>
                  <a:pt x="0" y="0"/>
                </a:moveTo>
                <a:lnTo>
                  <a:pt x="0" y="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346716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30680" y="50925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5270400"/>
            <a:ext cx="1800" cy="204840"/>
          </a:xfrm>
          <a:custGeom>
            <a:avLst/>
            <a:gdLst/>
            <a:ahLst/>
            <a:rect l="l" t="t" r="r" b="b"/>
            <a:pathLst>
              <a:path w="1" h="129">
                <a:moveTo>
                  <a:pt x="0" y="0"/>
                </a:moveTo>
                <a:lnTo>
                  <a:pt x="0" y="1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472428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95960" y="2971800"/>
            <a:ext cx="1144440" cy="1081080"/>
            <a:chOff x="5295960" y="2971800"/>
            <a:chExt cx="1144440" cy="1081080"/>
          </a:xfrm>
        </p:grpSpPr>
        <p:sp>
          <p:nvSpPr>
            <p:cNvPr id="97" name=""/>
            <p:cNvSpPr/>
            <p:nvPr/>
          </p:nvSpPr>
          <p:spPr>
            <a:xfrm>
              <a:off x="5295960" y="2971800"/>
              <a:ext cx="1144440" cy="1081080"/>
            </a:xfrm>
            <a:custGeom>
              <a:avLst/>
              <a:gdLst/>
              <a:ahLst/>
              <a:rect l="l" t="t" r="r" b="b"/>
              <a:pathLst>
                <a:path w="721" h="681">
                  <a:moveTo>
                    <a:pt x="360" y="0"/>
                  </a:moveTo>
                  <a:lnTo>
                    <a:pt x="0" y="340"/>
                  </a:lnTo>
                  <a:lnTo>
                    <a:pt x="360" y="680"/>
                  </a:lnTo>
                  <a:lnTo>
                    <a:pt x="720" y="340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0760" y="3268800"/>
              <a:ext cx="4730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=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o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295960" y="4191120"/>
            <a:ext cx="1144440" cy="1081080"/>
            <a:chOff x="5295960" y="4191120"/>
            <a:chExt cx="1144440" cy="1081080"/>
          </a:xfrm>
        </p:grpSpPr>
        <p:sp>
          <p:nvSpPr>
            <p:cNvPr id="100" name=""/>
            <p:cNvSpPr/>
            <p:nvPr/>
          </p:nvSpPr>
          <p:spPr>
            <a:xfrm>
              <a:off x="5295960" y="4191120"/>
              <a:ext cx="1144440" cy="1081080"/>
            </a:xfrm>
            <a:custGeom>
              <a:avLst/>
              <a:gdLst/>
              <a:ahLst/>
              <a:rect l="l" t="t" r="r" b="b"/>
              <a:pathLst>
                <a:path w="721" h="681">
                  <a:moveTo>
                    <a:pt x="360" y="0"/>
                  </a:moveTo>
                  <a:lnTo>
                    <a:pt x="0" y="340"/>
                  </a:lnTo>
                  <a:lnTo>
                    <a:pt x="360" y="680"/>
                  </a:lnTo>
                  <a:lnTo>
                    <a:pt x="720" y="340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0760" y="4487760"/>
              <a:ext cx="4730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=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o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867280" y="1600200"/>
            <a:ext cx="1800" cy="115920"/>
          </a:xfrm>
          <a:custGeom>
            <a:avLst/>
            <a:gdLst/>
            <a:ahLst/>
            <a:rect l="l" t="t" r="r" b="b"/>
            <a:pathLst>
              <a:path w="1" h="73">
                <a:moveTo>
                  <a:pt x="0" y="0"/>
                </a:moveTo>
                <a:lnTo>
                  <a:pt x="0" y="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332748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05740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547380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38960" y="2247840"/>
            <a:ext cx="420480" cy="7920"/>
          </a:xfrm>
          <a:custGeom>
            <a:avLst/>
            <a:gdLst/>
            <a:ahLst/>
            <a:rect l="l" t="t" r="r" b="b"/>
            <a:pathLst>
              <a:path w="265" h="5">
                <a:moveTo>
                  <a:pt x="0" y="4"/>
                </a:moveTo>
                <a:lnTo>
                  <a:pt x="26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38960" y="3511440"/>
            <a:ext cx="420480" cy="7920"/>
          </a:xfrm>
          <a:custGeom>
            <a:avLst/>
            <a:gdLst/>
            <a:ahLst/>
            <a:rect l="l" t="t" r="r" b="b"/>
            <a:pathLst>
              <a:path w="265" h="5">
                <a:moveTo>
                  <a:pt x="0" y="0"/>
                </a:moveTo>
                <a:lnTo>
                  <a:pt x="264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38960" y="4730760"/>
            <a:ext cx="420480" cy="9360"/>
          </a:xfrm>
          <a:custGeom>
            <a:avLst/>
            <a:gdLst/>
            <a:ahLst/>
            <a:rect l="l" t="t" r="r" b="b"/>
            <a:pathLst>
              <a:path w="265" h="6">
                <a:moveTo>
                  <a:pt x="0" y="0"/>
                </a:moveTo>
                <a:lnTo>
                  <a:pt x="264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47840"/>
            <a:ext cx="2440080" cy="3781440"/>
          </a:xfrm>
          <a:custGeom>
            <a:avLst/>
            <a:gdLst/>
            <a:ahLst/>
            <a:rect l="l" t="t" r="r" b="b"/>
            <a:pathLst>
              <a:path w="1537" h="2382">
                <a:moveTo>
                  <a:pt x="1392" y="0"/>
                </a:moveTo>
                <a:lnTo>
                  <a:pt x="1536" y="0"/>
                </a:lnTo>
                <a:lnTo>
                  <a:pt x="1536" y="2381"/>
                </a:lnTo>
                <a:lnTo>
                  <a:pt x="0" y="2381"/>
                </a:lnTo>
                <a:lnTo>
                  <a:pt x="0" y="23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8280" y="1676520"/>
            <a:ext cx="47984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#include &lt;con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#include &lt;ctype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har cm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”</a:t>
            </a:r>
            <a:r>
              <a:rPr b="1" lang="pt-PT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icheiro     </a:t>
            </a:r>
            <a:r>
              <a:rPr b="1" lang="pt-P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itar        </a:t>
            </a:r>
            <a:r>
              <a:rPr b="1" lang="pt-P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er          </a:t>
            </a:r>
            <a:r>
              <a:rPr b="1" lang="pt-P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i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Escolha a opção desejada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md = toupper(getch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PT" sz="1600" spc="-1" strike="noStrike">
                <a:solidFill>
                  <a:srgbClr val="000000"/>
                </a:solidFill>
                <a:latin typeface="Times New Roman"/>
              </a:rPr>
              <a:t>switch (cm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’F': printf(”Manipulação de ficheiros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’E': printf(”Editar ficheiro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S': printf(”Sair do programa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’V': printf(”Visualizar ficheiro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efault : printf(”Escolha inválida.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EMPLO PR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4880" y="2057400"/>
            <a:ext cx="4789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witch (cm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’F'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‘f’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”Manipulação de ficheiros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’E'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‘e’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printf(”Editar ficheiro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'S': printf(”Sair do programa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case ’V': printf(”Visualizar ficheiro\n"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default : printf(”Escolha inválida.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563868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Analisa o exemplo apresen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IAGRAMA DA ITERAÇÃO CON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condição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instrução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instr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PT" sz="2000" spc="-1" strike="noStrike">
                <a:solidFill>
                  <a:srgbClr val="000000"/>
                </a:solidFill>
                <a:latin typeface="Times New Roman"/>
              </a:rPr>
              <a:t>condição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029200" y="2133720"/>
            <a:ext cx="1373040" cy="1296720"/>
            <a:chOff x="5029200" y="2133720"/>
            <a:chExt cx="1373040" cy="1296720"/>
          </a:xfrm>
        </p:grpSpPr>
        <p:sp>
          <p:nvSpPr>
            <p:cNvPr id="120" name=""/>
            <p:cNvSpPr/>
            <p:nvPr/>
          </p:nvSpPr>
          <p:spPr>
            <a:xfrm>
              <a:off x="5029200" y="2133720"/>
              <a:ext cx="1373040" cy="1296720"/>
            </a:xfrm>
            <a:custGeom>
              <a:avLst/>
              <a:gdLst/>
              <a:ahLst/>
              <a:rect l="l" t="t" r="r" b="b"/>
              <a:pathLst>
                <a:path w="865" h="817">
                  <a:moveTo>
                    <a:pt x="432" y="0"/>
                  </a:moveTo>
                  <a:lnTo>
                    <a:pt x="0" y="408"/>
                  </a:lnTo>
                  <a:lnTo>
                    <a:pt x="432" y="816"/>
                  </a:lnTo>
                  <a:lnTo>
                    <a:pt x="864" y="408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1240" y="2484360"/>
              <a:ext cx="5875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di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400800" y="2513160"/>
            <a:ext cx="763560" cy="269640"/>
          </a:xfrm>
          <a:custGeom>
            <a:avLst/>
            <a:gdLst/>
            <a:ahLst/>
            <a:rect l="l" t="t" r="r" b="b"/>
            <a:pathLst>
              <a:path w="481" h="170">
                <a:moveTo>
                  <a:pt x="0" y="169"/>
                </a:moveTo>
                <a:lnTo>
                  <a:pt x="480" y="169"/>
                </a:lnTo>
                <a:lnTo>
                  <a:pt x="4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213372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1828800"/>
            <a:ext cx="1440" cy="306360"/>
          </a:xfrm>
          <a:custGeom>
            <a:avLst/>
            <a:gdLst/>
            <a:ahLst/>
            <a:rect l="l" t="t" r="r" b="b"/>
            <a:pathLst>
              <a:path w="1" h="193">
                <a:moveTo>
                  <a:pt x="0" y="0"/>
                </a:moveTo>
                <a:lnTo>
                  <a:pt x="0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2900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1981080"/>
            <a:ext cx="1449360" cy="154080"/>
          </a:xfrm>
          <a:custGeom>
            <a:avLst/>
            <a:gdLst/>
            <a:ahLst/>
            <a:rect l="l" t="t" r="r" b="b"/>
            <a:pathLst>
              <a:path w="913" h="97">
                <a:moveTo>
                  <a:pt x="912" y="96"/>
                </a:moveTo>
                <a:lnTo>
                  <a:pt x="91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43540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03960" y="33526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324480" y="4419720"/>
            <a:ext cx="1373400" cy="1296720"/>
            <a:chOff x="6324480" y="4419720"/>
            <a:chExt cx="1373400" cy="1296720"/>
          </a:xfrm>
        </p:grpSpPr>
        <p:sp>
          <p:nvSpPr>
            <p:cNvPr id="130" name=""/>
            <p:cNvSpPr/>
            <p:nvPr/>
          </p:nvSpPr>
          <p:spPr>
            <a:xfrm>
              <a:off x="6324480" y="4419720"/>
              <a:ext cx="1373400" cy="1296720"/>
            </a:xfrm>
            <a:custGeom>
              <a:avLst/>
              <a:gdLst/>
              <a:ahLst/>
              <a:rect l="l" t="t" r="r" b="b"/>
              <a:pathLst>
                <a:path w="865" h="817">
                  <a:moveTo>
                    <a:pt x="432" y="0"/>
                  </a:moveTo>
                  <a:lnTo>
                    <a:pt x="0" y="408"/>
                  </a:lnTo>
                  <a:lnTo>
                    <a:pt x="432" y="816"/>
                  </a:lnTo>
                  <a:lnTo>
                    <a:pt x="864" y="408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16880" y="4770360"/>
              <a:ext cx="587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di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620120" y="4000680"/>
            <a:ext cx="306360" cy="1068120"/>
          </a:xfrm>
          <a:custGeom>
            <a:avLst/>
            <a:gdLst/>
            <a:ahLst/>
            <a:rect l="l" t="t" r="r" b="b"/>
            <a:pathLst>
              <a:path w="193" h="673">
                <a:moveTo>
                  <a:pt x="48" y="672"/>
                </a:moveTo>
                <a:lnTo>
                  <a:pt x="192" y="672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3809880"/>
            <a:ext cx="12193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4189320"/>
            <a:ext cx="1800" cy="231840"/>
          </a:xfrm>
          <a:custGeom>
            <a:avLst/>
            <a:gdLst/>
            <a:ahLst/>
            <a:rect l="l" t="t" r="r" b="b"/>
            <a:pathLst>
              <a:path w="1" h="146">
                <a:moveTo>
                  <a:pt x="0" y="0"/>
                </a:moveTo>
                <a:lnTo>
                  <a:pt x="0" y="1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571500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72140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99240" y="56386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581280"/>
            <a:ext cx="1800" cy="2304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0:00:21Z</dcterms:created>
  <dc:creator>Goncalo</dc:creator>
  <dc:description/>
  <dc:language>en-US</dc:language>
  <cp:lastModifiedBy>Adelino</cp:lastModifiedBy>
  <dcterms:modified xsi:type="dcterms:W3CDTF">1998-10-22T21:52:50Z</dcterms:modified>
  <cp:revision>52</cp:revision>
  <dc:subject/>
  <dc:title>No Slide Title</dc:title>
</cp:coreProperties>
</file>