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APPLAUSE.WAV" ContentType="audio/x-wav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414-CE01-4DE5-A283-823A8169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C6B-08F3-4A8F-927C-5B9DC695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AB4-B9F1-4357-A28C-3A2752BC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C5E-F9A4-439C-91BD-1A89A430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145-54CA-44F5-8999-4CF57082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885-F226-4DB3-BE1F-56616FD3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9B1-9BA7-4B71-AAF7-A725B31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C17-4C4A-4A7C-B2F8-14B1E425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DFC-6AAC-4983-8E10-06F344DD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0A5-5C52-4228-89A3-1760654C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9BF-5E41-4149-B49A-87CADB5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BD0-1AAE-44FE-9889-392C9AB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6046-D389-4E2E-A617-90AA493B7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UNIDAD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UDO DE FUN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57560" y="1752480"/>
            <a:ext cx="4563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  int_num = 99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float float_num = 99.9989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long  double big_num = 1250500750.7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12345678901234567890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d\n", int_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6d\n", int_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f\n", float_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6.3f\n", float_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e\n", big_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Le\n", big_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2520" y="1752480"/>
            <a:ext cx="475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i = 101, j = 59, k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m = 70,  n = 85, p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q = 39, r = 110, s = 1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\t A\t B\t C\n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”Cao\t%3d\t%3d\t%3d\n", i, j, 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”Gato\t%3d\t%3d\t%3d\n", m, n, 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”Galo\t%3d\t%3d\t%3d\n",  q, r, 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95400" y="1828800"/>
            <a:ext cx="3470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int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float 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sult = 1.0 + 2.0 * 3.0 / 4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f\n"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sult = 1.0 / 2.0 + 3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f\n"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sult = (1.0 + 2.0) / 3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f\n"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sult = (1.0 + 2.0 / 3.0) + 4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printf("%f\n"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8160" y="191628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6633"/>
                </a:solidFill>
                <a:uFillTx/>
                <a:latin typeface="Arial"/>
              </a:rPr>
              <a:t>Compara este dois ex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1120" y="2743200"/>
            <a:ext cx="28630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a = 5,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%d”,a/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gec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960" y="2743200"/>
            <a:ext cx="43732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a = 5,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%f”,(float) a / (float) 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gec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96080" y="1447920"/>
            <a:ext cx="8575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7520" y="1828800"/>
            <a:ext cx="36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Analisa o seguint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1320" y="2590920"/>
            <a:ext cx="455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val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Val é %d \n”, val++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Val agora é %d \n”, 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Val é %d \n”, ++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91520" y="236232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8560" y="2590920"/>
            <a:ext cx="502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1 &amp; 1 = %d\n”,1&amp;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1 | 1 = %d\n”,1|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1 ^ 1 = %d\n”,1^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255 &lt;&lt; 2 = %d\n”,255 &lt;&lt; 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255 &gt;&gt; 2 = %d\n”,255 &gt;&gt; 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~255 = %u\n”,~25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42400" y="1905120"/>
            <a:ext cx="352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cc"/>
                </a:solidFill>
                <a:latin typeface="Arial"/>
              </a:rPr>
              <a:t>Inteiro 1 é guardado em dois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cc3300"/>
                </a:solidFill>
                <a:latin typeface="Arial"/>
              </a:rPr>
              <a:t>00000000 00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3333cc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cc3300"/>
                </a:solidFill>
                <a:latin typeface="Arial"/>
              </a:rPr>
              <a:t>00000000 1111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LEITURA - TECL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59000" y="1523880"/>
            <a:ext cx="75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3300"/>
                </a:solidFill>
                <a:latin typeface="Arial"/>
              </a:rPr>
              <a:t>scanf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2000" spc="-1" strike="noStrike">
                <a:solidFill>
                  <a:srgbClr val="996633"/>
                </a:solidFill>
                <a:latin typeface="Arial"/>
              </a:rPr>
              <a:t>lê dados formatados, idêntico à função printf, recorre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996633"/>
                </a:solidFill>
                <a:latin typeface="Arial"/>
              </a:rPr>
              <a:t>ao teclado. Devolve EOF se houver um erro, ou o númer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996633"/>
                </a:solidFill>
                <a:latin typeface="Arial"/>
              </a:rPr>
              <a:t>atribuições operadas com êx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2000" y="2819520"/>
            <a:ext cx="7035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Insira um número inteiro 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canf(“%i”,&amp;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Insira um caracter 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canf(“%c”,&amp;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O número digitado foi %d e o caracter foi %c”,I,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781680" y="2819520"/>
            <a:ext cx="14702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MADA DE FUN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9040" y="1676520"/>
            <a:ext cx="402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loat op1, op2;  // variáveis glob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loat soma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cc3300"/>
                </a:solidFill>
                <a:latin typeface="Arial"/>
              </a:rPr>
              <a:t>return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op1 + op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cc3300"/>
                </a:solidFill>
                <a:latin typeface="Arial"/>
              </a:rPr>
              <a:t>voi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p1 = 1235.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p2 = 93.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%f”,soma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8200" y="2895480"/>
            <a:ext cx="323496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 se as variáveis 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 op2 forem locais, qual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sultado da operaçã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rá que há u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stratégia melhor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solver o problem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MADA DE FUN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1120" y="1676520"/>
            <a:ext cx="7677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soma(int a, int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cc3300"/>
                </a:solidFill>
                <a:latin typeface="Arial"/>
              </a:rPr>
              <a:t>return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a +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cc3300"/>
                </a:solidFill>
                <a:latin typeface="Arial"/>
              </a:rPr>
              <a:t>voi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n1,n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\nIntroduza dois números 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canf(“%I%I”,&amp;n1, &amp;n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\nO resultado de %I + %I é %i”,n1,n2,soma(n1,n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2957400"/>
            <a:ext cx="3047760" cy="398880"/>
          </a:xfrm>
          <a:prstGeom prst="borderCallout1">
            <a:avLst>
              <a:gd name="adj1" fmla="val 18750"/>
              <a:gd name="adj2" fmla="val -8333"/>
              <a:gd name="adj3" fmla="val 224703"/>
              <a:gd name="adj4" fmla="val -8686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a o valor de re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ASSAGEM POR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2160" y="1752480"/>
            <a:ext cx="439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multi(</a:t>
            </a:r>
            <a:r>
              <a:rPr b="0" lang="pt-PT" sz="2000" spc="-1" strike="noStrike">
                <a:solidFill>
                  <a:srgbClr val="cc3300"/>
                </a:solidFill>
                <a:latin typeface="Arial"/>
              </a:rPr>
              <a:t>int a, int b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= a *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I = 10,j = 20, 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s = multi(I, 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%d * %d = %d”,I,j,r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905120"/>
            <a:ext cx="31194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597" y="14853"/>
                </a:moveTo>
                <a:lnTo>
                  <a:pt x="-528" y="3471"/>
                </a:lnTo>
              </a:path>
              <a:path w="21600" h="21600">
                <a:moveTo>
                  <a:pt x="-528" y="0"/>
                </a:moveTo>
                <a:lnTo>
                  <a:pt x="-528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333cc"/>
                </a:solidFill>
                <a:latin typeface="Arial"/>
              </a:rPr>
              <a:t>Parâmetros da função mul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9200" y="2895480"/>
            <a:ext cx="3112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valor de a e b ent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função só 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hecidos dentro d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391520" y="419112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spectos Básicos sobre Fun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85560" y="1676520"/>
            <a:ext cx="564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unções em C têm um papel  funda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esenvolvimento de programas estrutu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modu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93560" y="2819520"/>
            <a:ext cx="574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n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um bloco de código que po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do de vários locais de um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2680" y="3733920"/>
            <a:ext cx="706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cionalmente poderemos passar parâmetros para a fu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lores com os quais a função vai oper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5400" y="4876920"/>
            <a:ext cx="602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is de terminada a sua execução, pode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cionalmente retomar (ou devolver) um valor,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rá ou não ser utilizado no local onde a fu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m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ASSAGEM POR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7680" y="1828800"/>
            <a:ext cx="3143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ulti(int *a, int *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*a = *a *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*b = *b *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I = 10,j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ulti(&amp;I, &amp;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%d %d”,I,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0" y="2373480"/>
            <a:ext cx="27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perador 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produz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ereço da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2080" y="3516480"/>
            <a:ext cx="295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perador 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dá 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variável apontada p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GUMENTOS DA FUNÇÃO MA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1120" y="1828800"/>
            <a:ext cx="7104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função main, embora seja uma função especial, també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de ter parâmetros e valores de re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parâmetros desta função estão relacionados com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ssados pelo sistema operativo para o programa; o valo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torno é um valor que é devolvido para o sistema ope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 final da execução do programa. Basicamente, esta fu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de tomar quatro formatos possívei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1440" y="4632480"/>
            <a:ext cx="37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vo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int argc,char *argv[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ain(vo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ain(int argc,char *argv[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419720"/>
            <a:ext cx="2678400" cy="1008720"/>
          </a:xfrm>
          <a:prstGeom prst="borderCallout1">
            <a:avLst>
              <a:gd name="adj1" fmla="val 18750"/>
              <a:gd name="adj2" fmla="val -8333"/>
              <a:gd name="adj3" fmla="val 43879"/>
              <a:gd name="adj4" fmla="val -6756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retorno para o Sistema Operativo (S.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5867280"/>
            <a:ext cx="2647800" cy="703800"/>
          </a:xfrm>
          <a:prstGeom prst="borderCallout1">
            <a:avLst>
              <a:gd name="adj1" fmla="val 18750"/>
              <a:gd name="adj2" fmla="val -8333"/>
              <a:gd name="adj3" fmla="val 254"/>
              <a:gd name="adj4" fmla="val -6816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retorno para o S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GUMENTOS DA FUNÇÃO MA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880" y="2514600"/>
            <a:ext cx="7242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int</a:t>
            </a: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PT" sz="2000" spc="-1" strike="noStrike" u="sng">
                <a:solidFill>
                  <a:srgbClr val="ff3300"/>
                </a:solidFill>
                <a:uFillTx/>
                <a:latin typeface="Arial"/>
              </a:rPr>
              <a:t>argc</a:t>
            </a: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 *</a:t>
            </a:r>
            <a:r>
              <a:rPr b="1" lang="pt-PT" sz="2000" spc="-1" strike="noStrike" u="sng">
                <a:solidFill>
                  <a:srgbClr val="ff3300"/>
                </a:solidFill>
                <a:uFillTx/>
                <a:latin typeface="Arial"/>
              </a:rPr>
              <a:t>argv[ ]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f(argc !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Então! Não vai digitar o seu nome ?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3333cc"/>
                </a:solidFill>
                <a:latin typeface="Arial"/>
              </a:rPr>
              <a:t>exit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Olá %s”,argv[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1520" y="3287880"/>
            <a:ext cx="29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3300"/>
                </a:solidFill>
                <a:latin typeface="Arial"/>
              </a:rPr>
              <a:t>argv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guarda as string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a linha de com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809880"/>
            <a:ext cx="1828800" cy="304920"/>
          </a:xfrm>
          <a:custGeom>
            <a:avLst/>
            <a:gdLst>
              <a:gd name="textAreaLeft" fmla="*/ 319680 w 1828800"/>
              <a:gd name="textAreaRight" fmla="*/ 1325880 w 1828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58" hR="21600" stAng="10800000" swAng="-5400000"/>
                <a:lnTo>
                  <a:pt x="11882" y="21600"/>
                </a:lnTo>
                <a:arcTo wR="7558" hR="21600" stAng="5400000" swAng="-2682183"/>
                <a:lnTo>
                  <a:pt x="21168" y="7200"/>
                </a:lnTo>
                <a:lnTo>
                  <a:pt x="17278" y="0"/>
                </a:lnTo>
                <a:lnTo>
                  <a:pt x="12524" y="7200"/>
                </a:lnTo>
                <a:lnTo>
                  <a:pt x="14684" y="7200"/>
                </a:lnTo>
                <a:arcTo wR="7558" hR="21600" stAng="2717817" swAng="2324382"/>
                <a:lnTo>
                  <a:pt x="9720" y="20697"/>
                </a:lnTo>
                <a:arcTo wR="7558" hR="21600" stAng="5757801" swAng="5042199"/>
                <a:close/>
              </a:path>
              <a:path fill="darkenLess" w="21600" h="21600">
                <a:moveTo>
                  <a:pt x="0" y="0"/>
                </a:moveTo>
                <a:arcTo wR="7558" hR="21600" stAng="10800000" swAng="-5400000"/>
                <a:lnTo>
                  <a:pt x="11882" y="21600"/>
                </a:lnTo>
                <a:arcTo wR="7558" hR="21600" stAng="5400000" swAng="357801"/>
                <a:lnTo>
                  <a:pt x="9720" y="20697"/>
                </a:lnTo>
                <a:arcTo wR="7558" hR="21600" stAng="5757801" swAng="504219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2209680"/>
            <a:ext cx="4267440" cy="838440"/>
          </a:xfrm>
          <a:prstGeom prst="wedgeRoundRectCallout">
            <a:avLst>
              <a:gd name="adj1" fmla="val -66407"/>
              <a:gd name="adj2" fmla="val 1191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pt-PT" sz="2000" spc="-1" strike="noStrike">
                <a:solidFill>
                  <a:srgbClr val="ff3300"/>
                </a:solidFill>
                <a:latin typeface="Arial"/>
              </a:rPr>
              <a:t>argc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guarda o nº de argu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a linha de com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5920" y="266688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:\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2000" spc="-1" strike="noStrike">
                <a:solidFill>
                  <a:srgbClr val="0066cc"/>
                </a:solidFill>
                <a:latin typeface="Arial"/>
              </a:rPr>
              <a:t>escol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2000" spc="-1" strike="noStrike">
                <a:solidFill>
                  <a:srgbClr val="00cc99"/>
                </a:solidFill>
                <a:latin typeface="Arial"/>
              </a:rPr>
              <a:t>turm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PT" sz="2000" spc="-1" strike="noStrike">
                <a:solidFill>
                  <a:srgbClr val="996633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542960"/>
            <a:ext cx="2549520" cy="703800"/>
          </a:xfrm>
          <a:prstGeom prst="borderCallout1">
            <a:avLst>
              <a:gd name="adj1" fmla="val 18750"/>
              <a:gd name="adj2" fmla="val -8333"/>
              <a:gd name="adj3" fmla="val 170138"/>
              <a:gd name="adj4" fmla="val -86726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programa chama-se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6200" y="3733920"/>
            <a:ext cx="43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xistem 3 argumentos, isto é, </a:t>
            </a: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argc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34340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2280" y="4583160"/>
            <a:ext cx="268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*argv[0] = “c:\abc.ex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*argv[1] = “escol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*argv[2] = “tur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*argv[3] = “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133720" y="312408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ECURSIV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752480"/>
            <a:ext cx="396252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 factorial(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 t, tot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or(t = 2; t &lt;= n; 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ot = tot * 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turn t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canf(“%d”,&amp;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intf(“%10d\n”,factorial(i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61160" y="1752480"/>
            <a:ext cx="380952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 factorial(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 t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f(n == 1)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ot = factorial(n-1) *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turn t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canf(“%d”,&amp;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intf(“%10d\n”,factorial(i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râmetros Fantas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91960" y="1839960"/>
            <a:ext cx="720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o contrário da grande parte das linguagens de programaçã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a linguagem C é possível passar um número variável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âmetros para uma fun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xemplo estudado é a funçã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rin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4880" y="3657600"/>
            <a:ext cx="620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informar o compilador que a função vai rece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número variável de parâmetro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cam-se trê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t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uidos do último parâmetro obrigató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87360" y="5054760"/>
            <a:ext cx="59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996633"/>
                </a:solidFill>
                <a:latin typeface="Arial"/>
              </a:rPr>
              <a:t>Exempl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func_a(int  x, int  y, …);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// 2 obrigató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ceder aos Parâmetros </a:t>
            </a:r>
            <a:r>
              <a:rPr b="1" i="1" lang="en-US" sz="3600" spc="-1" strike="noStrike">
                <a:solidFill>
                  <a:srgbClr val="3333cc"/>
                </a:solidFill>
                <a:latin typeface="Comic Sans MS"/>
              </a:rPr>
              <a:t>Fantas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62240" y="1600200"/>
            <a:ext cx="69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a aceder aos parâmetros opcionais de uma função 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ecessário incluir no início do programa o ficheir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tdarg.h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7200" y="259092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contém as macros e tipos seguint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0920" y="3200400"/>
            <a:ext cx="71665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va_list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tipo que aponta para os arg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va_start(va_list ptr, último_arg)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inicializa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tr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azendo-o apontar para o primeiro parâmetro op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ipo  va_arg(va_list  ptr, tipo)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retoma o valor do parâme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pontado por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tr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que é do tip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tr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é incrementad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odo a apontar para o próximo parâme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va_end(va_list  ptr)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deverá ser sempre executada q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ão existirem mais parâmetros para process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1760" y="1523880"/>
            <a:ext cx="4792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arg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oma(int primeira, …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a_list 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valor, sub_to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ub_total = primei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a_start(p,primeir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while((valor = va_arg(p,int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ub_total +=val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turn sub_to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97920" y="5334120"/>
            <a:ext cx="66837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void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\nO total é %I\n</a:t>
            </a:r>
            <a:r>
              <a:rPr b="0" lang="pt-PT" sz="2000" spc="-1" strike="noStrike">
                <a:solidFill>
                  <a:srgbClr val="cc3300"/>
                </a:solidFill>
                <a:latin typeface="Arial"/>
              </a:rPr>
              <a:t>”,soma(44,56,28,566,344,-23,0)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jectivos da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75240" y="2292480"/>
            <a:ext cx="64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 aluno deve ser capaz de converter os segui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seudocódigos para linguagem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7760" y="3809880"/>
            <a:ext cx="603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 aluno deve ser capaz de criar algoritmos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esolução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9720" y="5257800"/>
            <a:ext cx="53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 aluno deve ser estruturado e metód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4320" y="3581280"/>
            <a:ext cx="6004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R(NOME, HORA, VALOR-HO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QUID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RAS * VALOR-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LIQUIDO - 0.1 * ILI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REVER(NOME, HORAS, LIQUIDO, ILIQU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55520" y="1523880"/>
            <a:ext cx="731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nde-se obter o salário líquido de um trabalhador atrav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leitura do nome, horas trabalhadas, valor-hora, e sabe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os impostos aplicados são exactamente 10% sobre o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íq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27640" y="5878440"/>
            <a:ext cx="64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Cria um fluxograma que ilustre a situação apresentad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FORMA GERAL DE UMA FUN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1960" y="3657600"/>
            <a:ext cx="452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ipo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66cc"/>
                </a:solidFill>
                <a:latin typeface="Times New Roman"/>
              </a:rPr>
              <a:t>nome_função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âmetro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orpo da 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386000" cy="92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676440" cy="113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78600" y="2220840"/>
            <a:ext cx="408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 como as variáveis, as funç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bém têm de ser decla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4876920"/>
            <a:ext cx="1752480" cy="398880"/>
          </a:xfrm>
          <a:prstGeom prst="borderCallout1">
            <a:avLst>
              <a:gd name="adj1" fmla="val 18750"/>
              <a:gd name="adj2" fmla="val -8333"/>
              <a:gd name="adj3" fmla="val -133810"/>
              <a:gd name="adj4" fmla="val -5107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 g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85200" y="3657600"/>
            <a:ext cx="680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a os algoritmos que ilustrem os exemplos aprese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 unidade em termos de pseudocódi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0920" y="1763640"/>
            <a:ext cx="744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 um algoritmo que permita introduzir três val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os pelo teclado e visualizar a sua soma e o seu produ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Ficha de Traba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08880" y="1523880"/>
            <a:ext cx="74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nde-se definir e utilizar um procedimento para determ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ão inteira de dois números, obtendo o quociente e o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1040" y="3124080"/>
            <a:ext cx="6915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imento divi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videndo, divisor, quociente, re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cien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ndo / di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ndo - quociente * di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m proce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a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r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ar_divisão(x,y,q,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rever(q,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ar_divisão(x*(y-1), y+1,s,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m programa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DE FUN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05740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pt-PT" sz="2000" spc="-1" strike="noStrike">
                <a:solidFill>
                  <a:srgbClr val="3333cc"/>
                </a:solidFill>
                <a:latin typeface="Times New Roman"/>
              </a:rPr>
              <a:t>main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corpo do programa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8960" y="4572000"/>
            <a:ext cx="29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3300"/>
                </a:solidFill>
                <a:latin typeface="Times New Roman"/>
              </a:rPr>
              <a:t>float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2000" spc="-1" strike="noStrike">
                <a:solidFill>
                  <a:srgbClr val="3333cc"/>
                </a:solidFill>
                <a:latin typeface="Times New Roman"/>
              </a:rPr>
              <a:t>area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pt-PT" sz="2000" spc="-1" strike="noStrike">
                <a:solidFill>
                  <a:srgbClr val="006600"/>
                </a:solidFill>
                <a:latin typeface="Times New Roman"/>
              </a:rPr>
              <a:t>float l, float a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PT" sz="2000" spc="-1" strike="noStrike">
                <a:solidFill>
                  <a:srgbClr val="ff3300"/>
                </a:solidFill>
                <a:latin typeface="Times New Roman"/>
              </a:rPr>
              <a:t>return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 l *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236232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6400" y="228600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grama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3440" y="464832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unção que calcula a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4100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69840" y="37339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po de ret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/>
          <p:nvPr/>
        </p:nvCxnSpPr>
        <p:spPr>
          <a:xfrm flipH="1" rot="16200000">
            <a:off x="5457600" y="4066200"/>
            <a:ext cx="455040" cy="3992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093360" y="350532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e da fun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476760" y="38098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27960" y="39196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âme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772040" y="41911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433440" cy="685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16840" y="6031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z devolver o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629400" y="5562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ARACTERES DE FORM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abela1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518148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9080" y="1676520"/>
            <a:ext cx="617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t a,b;  // Declaração de variáveis locais à função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int to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a = 1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b = 5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total = a *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“%d * %d = %d”,a,b,tot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getch();   // lê um caracter sem o mostrar no ec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6520" y="57913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menta o resultad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74600" y="2286000"/>
            <a:ext cx="640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#include &lt;con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har carac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“Introduza uma letra : 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aracter </a:t>
            </a:r>
            <a:r>
              <a:rPr b="0" lang="pt-PT" sz="1800" spc="-1" strike="noStrike">
                <a:solidFill>
                  <a:srgbClr val="cc3300"/>
                </a:solidFill>
                <a:latin typeface="Times New Roman"/>
              </a:rPr>
              <a:t>= getch()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cc3300"/>
                </a:solidFill>
                <a:latin typeface="Times New Roman"/>
              </a:rPr>
              <a:t>putchar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caract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caracter = </a:t>
            </a:r>
            <a:r>
              <a:rPr b="0" lang="pt-PT" sz="1800" spc="-1" strike="noStrike">
                <a:solidFill>
                  <a:srgbClr val="cc3300"/>
                </a:solidFill>
                <a:latin typeface="Times New Roman"/>
              </a:rPr>
              <a:t>toupper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(caract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printf(“A sua correspondente maiúscula é %c “, caract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2920" y="213372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1680" y="2133720"/>
            <a:ext cx="3850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nt num = 3,  denom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loat val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alor = num / den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\n%f”, val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getch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5800" y="526896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omenta o resul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XEMPLOS PRÁ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91920" y="1981080"/>
            <a:ext cx="552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loat num = 125375750.7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intf(“\nO valor de num = %f \n”,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7040" y="541008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omenta o resul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43344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91520" y="1981080"/>
            <a:ext cx="1104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4T11:52:05Z</dcterms:created>
  <dc:creator>Goncalo</dc:creator>
  <dc:description/>
  <dc:language>en-US</dc:language>
  <cp:lastModifiedBy>Adelino</cp:lastModifiedBy>
  <cp:lastPrinted>1998-10-12T14:13:00Z</cp:lastPrinted>
  <dcterms:modified xsi:type="dcterms:W3CDTF">1998-10-22T21:51:02Z</dcterms:modified>
  <cp:revision>62</cp:revision>
  <dc:subject/>
  <dc:title>UNIDADE 3</dc:title>
</cp:coreProperties>
</file>