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39D-915A-463B-A921-9753B534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7F0-D9AB-4766-B9C9-DA5B02FC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1CA-EC30-46BB-B1CF-E42EAB5C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CDF-51DA-4877-B1D4-64444E55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998-C75A-4EB3-9122-D4F59033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F60-AEC6-4A74-AFEA-803A83A5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A33-00EE-4BDD-86C1-DD8E6CD4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CA2-2BA8-4F5D-9F6F-AD017BAC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C7E-ACEB-46B5-AF54-88B569B1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54F-BF1C-4F4B-94F4-A84FD905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389-693E-4F50-8C81-8AAB366A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BE2-CB25-47AD-A51D-65206B8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53A6-E192-4BD7-87FB-79AF350A3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UNIDAD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siderações gerais sobre a linguagem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DIÇÃO DE UM PROGRAMA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1º</a:t>
            </a:r>
            <a:r>
              <a:rPr b="1" lang="pt-PT" sz="2800" spc="-1" strike="noStrike">
                <a:solidFill>
                  <a:srgbClr val="3366cc"/>
                </a:solidFill>
                <a:latin typeface="Times New Roman"/>
              </a:rPr>
              <a:t> Chamar o ambiente integrado TC (edi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2º</a:t>
            </a:r>
            <a:r>
              <a:rPr b="1" lang="pt-PT" sz="2800" spc="-1" strike="noStrike">
                <a:solidFill>
                  <a:srgbClr val="3366cc"/>
                </a:solidFill>
                <a:latin typeface="Times New Roman"/>
              </a:rPr>
              <a:t> Menu FILE              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3º</a:t>
            </a:r>
            <a:r>
              <a:rPr b="1" lang="pt-PT" sz="2800" spc="-1" strike="noStrike">
                <a:solidFill>
                  <a:srgbClr val="3366cc"/>
                </a:solidFill>
                <a:latin typeface="Times New Roman"/>
              </a:rPr>
              <a:t> Escrever o programa desej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4º</a:t>
            </a:r>
            <a:r>
              <a:rPr b="1" lang="pt-PT" sz="2800" spc="-1" strike="noStrike">
                <a:solidFill>
                  <a:srgbClr val="3366cc"/>
                </a:solidFill>
                <a:latin typeface="Times New Roman"/>
              </a:rPr>
              <a:t> Gravar o programa  (F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087640" cy="228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52680" y="2514600"/>
            <a:ext cx="838440" cy="152280"/>
          </a:xfrm>
          <a:prstGeom prst="rightArrow">
            <a:avLst>
              <a:gd name="adj1" fmla="val 50000"/>
              <a:gd name="adj2" fmla="val 137648"/>
            </a:avLst>
          </a:prstGeom>
          <a:solidFill>
            <a:srgbClr val="00cc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28600" y="5638680"/>
            <a:ext cx="4334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O MEU PRIMEIRO PROGRAMA EM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4382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intf("Olá  este é o meu primeiro programa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intf("Olha mudei de linha !!!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intf("Quem foi o responsável ?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0" y="1600200"/>
            <a:ext cx="121752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MPILAR E EXECUTAR UM PROGRAMA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6705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c3300"/>
                </a:solidFill>
                <a:latin typeface="Times New Roman"/>
              </a:rPr>
              <a:t>Para Compilar o programa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pt-PT" sz="2800" spc="-1" strike="noStrike">
                <a:solidFill>
                  <a:srgbClr val="3333cc"/>
                </a:solidFill>
                <a:latin typeface="Times New Roman"/>
              </a:rPr>
              <a:t>Compile + Compile to OBJ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2800" spc="-1" strike="noStrike">
                <a:solidFill>
                  <a:srgbClr val="3333cc"/>
                </a:solidFill>
                <a:latin typeface="Times New Roman"/>
              </a:rPr>
              <a:t>F9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c3300"/>
                </a:solidFill>
                <a:latin typeface="Times New Roman"/>
              </a:rPr>
              <a:t>Para executar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pt-PT" sz="2800" spc="-1" strike="noStrike">
                <a:solidFill>
                  <a:srgbClr val="3333cc"/>
                </a:solidFill>
                <a:latin typeface="Times New Roman"/>
              </a:rPr>
              <a:t>Run + Run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PT" sz="2800" spc="-1" strike="noStrike">
                <a:solidFill>
                  <a:srgbClr val="3333cc"/>
                </a:solidFill>
                <a:latin typeface="Times New Roman"/>
              </a:rPr>
              <a:t>CTRL F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0720" y="182880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Depois de gravar o ficheiro    </a:t>
            </a:r>
            <a:r>
              <a:rPr b="0" lang="pt-PT" sz="2400" spc="-1" strike="noStrike" u="sng">
                <a:solidFill>
                  <a:srgbClr val="ff3300"/>
                </a:solidFill>
                <a:uFillTx/>
                <a:latin typeface="Arial"/>
              </a:rPr>
              <a:t>*.c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  ou  </a:t>
            </a:r>
            <a:r>
              <a:rPr b="0" lang="pt-PT" sz="2400" spc="-1" strike="noStrike" u="sng">
                <a:solidFill>
                  <a:srgbClr val="ff3300"/>
                </a:solidFill>
                <a:uFillTx/>
                <a:latin typeface="Arial"/>
              </a:rPr>
              <a:t>*.c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629400" y="3733920"/>
            <a:ext cx="208764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638680" y="19051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Combined  Programm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7040" y="289548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Basic Combined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0960" y="4319640"/>
            <a:ext cx="1846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Linguage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cc"/>
                </a:solidFill>
                <a:latin typeface="Times New Roman"/>
              </a:rPr>
              <a:t>(Ken Thompson</a:t>
            </a:r>
            <a:r>
              <a:rPr b="1" lang="pt-PT" sz="20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556272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c3300"/>
                </a:solidFill>
                <a:latin typeface="Times New Roman"/>
              </a:rPr>
              <a:t>Linguagem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cc"/>
                </a:solidFill>
                <a:latin typeface="Times New Roman"/>
              </a:rPr>
              <a:t>(Dennis Ritch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240" y="439596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Bell Laboratories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0960" y="566568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c3300"/>
                </a:solidFill>
                <a:latin typeface="Times New Roman"/>
              </a:rPr>
              <a:t>Bell Laboratories 19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RIG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7400" y="1295280"/>
            <a:ext cx="1400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LGOL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2057400"/>
            <a:ext cx="8096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PL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0" y="3048120"/>
            <a:ext cx="1095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CPL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29200" y="4343400"/>
            <a:ext cx="29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05520" y="5715000"/>
            <a:ext cx="295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1600200"/>
            <a:ext cx="1295280" cy="30492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66688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7339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50292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38080" y="2209680"/>
          <a:ext cx="7772400" cy="278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209680"/>
                    <a:ext cx="777240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90720" y="457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IALECTOS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1752480"/>
            <a:ext cx="21225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9880" y="2285640"/>
            <a:ext cx="5029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Sistemas Ope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Interpretadores / Compi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Edi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Gestores de bases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Utilit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5335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PLICAÇÕES DA LINGUAG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2689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191120" y="1676520"/>
          <a:ext cx="3886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1676520"/>
                    <a:ext cx="388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200760" y="26668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 N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8098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édio N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13520" y="499428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ixo N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4400" y="3121200"/>
            <a:ext cx="54612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ível Cres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1629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533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RACTERÍSTICAS DA LINGUAGE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0880" y="1600200"/>
            <a:ext cx="2286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95680" y="2285640"/>
            <a:ext cx="3733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Fiabi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Regular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Simpl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Facilidade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33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RACTERÍSTICAS DA LINGUAGE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6680" y="2057400"/>
            <a:ext cx="116676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276720"/>
            <a:ext cx="1523880" cy="1371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0840" y="354636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7000" y="2819520"/>
            <a:ext cx="16390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10400" y="2666880"/>
            <a:ext cx="13680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63040" y="4038480"/>
            <a:ext cx="114696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Lig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61600" y="5181480"/>
            <a:ext cx="1537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343400" y="3276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048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3434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85640" y="2286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495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57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ICLO DE DESENVOLVI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E UM PROGRAMA E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ROCESSO DE COMPIL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2133720"/>
            <a:ext cx="190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Times New Roman"/>
              </a:rPr>
              <a:t>Programa.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1871640" cy="1689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52480" y="2133720"/>
            <a:ext cx="1649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a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9440" y="2363760"/>
            <a:ext cx="1419120" cy="534960"/>
          </a:xfrm>
          <a:custGeom>
            <a:avLst/>
            <a:gdLst/>
            <a:ahLst/>
            <a:rect l="l" t="t" r="r" b="b"/>
            <a:pathLst>
              <a:path w="894" h="337">
                <a:moveTo>
                  <a:pt x="0" y="0"/>
                </a:moveTo>
                <a:lnTo>
                  <a:pt x="5" y="67"/>
                </a:lnTo>
                <a:lnTo>
                  <a:pt x="26" y="132"/>
                </a:lnTo>
                <a:lnTo>
                  <a:pt x="53" y="187"/>
                </a:lnTo>
                <a:lnTo>
                  <a:pt x="91" y="237"/>
                </a:lnTo>
                <a:lnTo>
                  <a:pt x="139" y="278"/>
                </a:lnTo>
                <a:lnTo>
                  <a:pt x="192" y="310"/>
                </a:lnTo>
                <a:lnTo>
                  <a:pt x="219" y="321"/>
                </a:lnTo>
                <a:lnTo>
                  <a:pt x="251" y="330"/>
                </a:lnTo>
                <a:lnTo>
                  <a:pt x="283" y="333"/>
                </a:lnTo>
                <a:lnTo>
                  <a:pt x="315" y="336"/>
                </a:lnTo>
                <a:lnTo>
                  <a:pt x="503" y="336"/>
                </a:lnTo>
                <a:lnTo>
                  <a:pt x="551" y="333"/>
                </a:lnTo>
                <a:lnTo>
                  <a:pt x="599" y="318"/>
                </a:lnTo>
                <a:lnTo>
                  <a:pt x="642" y="301"/>
                </a:lnTo>
                <a:lnTo>
                  <a:pt x="684" y="275"/>
                </a:lnTo>
                <a:lnTo>
                  <a:pt x="722" y="243"/>
                </a:lnTo>
                <a:lnTo>
                  <a:pt x="754" y="202"/>
                </a:lnTo>
                <a:lnTo>
                  <a:pt x="781" y="161"/>
                </a:lnTo>
                <a:lnTo>
                  <a:pt x="802" y="111"/>
                </a:lnTo>
                <a:lnTo>
                  <a:pt x="893" y="111"/>
                </a:lnTo>
                <a:lnTo>
                  <a:pt x="727" y="0"/>
                </a:lnTo>
                <a:lnTo>
                  <a:pt x="529" y="111"/>
                </a:lnTo>
                <a:lnTo>
                  <a:pt x="620" y="111"/>
                </a:lnTo>
                <a:lnTo>
                  <a:pt x="588" y="184"/>
                </a:lnTo>
                <a:lnTo>
                  <a:pt x="561" y="213"/>
                </a:lnTo>
                <a:lnTo>
                  <a:pt x="540" y="243"/>
                </a:lnTo>
                <a:lnTo>
                  <a:pt x="508" y="269"/>
                </a:lnTo>
                <a:lnTo>
                  <a:pt x="476" y="289"/>
                </a:lnTo>
                <a:lnTo>
                  <a:pt x="444" y="307"/>
                </a:lnTo>
                <a:lnTo>
                  <a:pt x="406" y="321"/>
                </a:lnTo>
                <a:lnTo>
                  <a:pt x="406" y="321"/>
                </a:lnTo>
                <a:lnTo>
                  <a:pt x="358" y="301"/>
                </a:lnTo>
                <a:lnTo>
                  <a:pt x="315" y="275"/>
                </a:lnTo>
                <a:lnTo>
                  <a:pt x="278" y="240"/>
                </a:lnTo>
                <a:lnTo>
                  <a:pt x="246" y="202"/>
                </a:lnTo>
                <a:lnTo>
                  <a:pt x="219" y="155"/>
                </a:lnTo>
                <a:lnTo>
                  <a:pt x="198" y="108"/>
                </a:lnTo>
                <a:lnTo>
                  <a:pt x="187" y="56"/>
                </a:lnTo>
                <a:lnTo>
                  <a:pt x="182" y="0"/>
                </a:lnTo>
                <a:lnTo>
                  <a:pt x="0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895480"/>
            <a:ext cx="31543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(t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819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28840" y="423216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Times New Roman"/>
              </a:rPr>
              <a:t>Programa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4334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Livrarias Internas da Linguagem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0320" y="1946160"/>
            <a:ext cx="62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Local onde se guardam funçõe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IBRARY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2309760" cy="227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95680" y="2666880"/>
            <a:ext cx="2438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66cc"/>
                </a:solidFill>
                <a:latin typeface="Arial"/>
              </a:rPr>
              <a:t>stdio.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66cc"/>
                </a:solidFill>
                <a:latin typeface="Arial"/>
              </a:rPr>
              <a:t>conio.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66cc"/>
                </a:solidFill>
                <a:latin typeface="Arial"/>
              </a:rPr>
              <a:t>stdarg.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66cc"/>
                </a:solidFill>
                <a:latin typeface="Arial"/>
              </a:rPr>
              <a:t>ctype.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66cc"/>
                </a:solidFill>
                <a:latin typeface="Arial"/>
              </a:rPr>
              <a:t>string.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66cc"/>
                </a:solidFill>
                <a:latin typeface="Arial"/>
              </a:rPr>
              <a:t>math.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3366cc"/>
                </a:solidFill>
                <a:latin typeface="Arial"/>
              </a:rPr>
              <a:t>stdlib.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182880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7960" y="4191120"/>
            <a:ext cx="192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ivr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3124080"/>
            <a:ext cx="2133360" cy="533520"/>
          </a:xfrm>
          <a:custGeom>
            <a:avLst/>
            <a:gdLst>
              <a:gd name="textAreaLeft" fmla="*/ 333360 w 2133360"/>
              <a:gd name="textAreaRight" fmla="*/ 1866960 w 2133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8:47:04Z</dcterms:created>
  <dc:creator>Adelino</dc:creator>
  <dc:description/>
  <dc:language>en-US</dc:language>
  <cp:lastModifiedBy>Goncalo</cp:lastModifiedBy>
  <dcterms:modified xsi:type="dcterms:W3CDTF">1998-08-25T10:54:39Z</dcterms:modified>
  <cp:revision>49</cp:revision>
  <dc:subject/>
  <dc:title>No Slide Title</dc:title>
</cp:coreProperties>
</file>